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509C-B666-4F86-A6D2-2DE907F4B347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6C9-374E-4124-9DD1-ECAB2B94A6B6}" type="slidenum"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595-660A-4456-8A1E-6234B05F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592-3166-4317-8083-66361BA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15B-352E-4898-B123-8145CB75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597-A6A8-47EA-A731-C07035AC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CDD7-F4EF-4A9F-9B57-4E0D53CE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7BF3-02F3-45BA-89C6-662DDD5C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DAA-95EC-4792-82C0-9C5454BC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171E-0227-47A1-8F0C-8A6701D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569B-AC85-418C-AF04-1C6D8F4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C05C-666D-4AA7-B795-3CDDB64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77F-319E-44CF-9F28-07BD47D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721-C889-4E27-8274-E0A50AC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3FC0-7D8D-4DBF-9E45-5DE9ADF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CB7-291D-485D-A30F-5FA27CA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B37-7FEF-4081-973A-85CDB2D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5FF8-0322-4566-842E-9B8F67E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AEF4-91CD-4269-A871-5F712B46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4245-B702-4842-84D2-D28C784A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AA84-BB6A-4EF2-8032-552145C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B5DE-E622-4570-94A4-BA66AC7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5BA5-8307-41DA-8D46-256CAD6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C393-A902-4CFF-9A0D-E824709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FA5-3A01-49ED-B773-F10F001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07C2-7BCD-4F2A-B25C-6F4D8521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262C-535F-4904-B3A9-72656E3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FD81-EBE7-44FD-8707-2B56AE9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901D-47EE-4D57-98F0-DCCE54F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5A4D-9B20-4F04-B95B-3C5C26D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3D89-5DC7-46D3-A4EE-CCE36A27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69FC-4F9D-4CBD-83E8-6166DFF0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C622C-C27C-4556-81E7-488522D2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784E-91C5-43FF-9B74-BC11494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C644-E634-4F11-8C74-75B91AE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C24-DB73-492D-91AD-FD2527EE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8510-51E8-4769-B9F1-2CB6017E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0705-ABB0-41ED-AF6B-876EDBC5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15E3-E303-40AD-9A89-ED2148CC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85F6-C018-4705-BD4C-0A0F221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EAB8-A577-4961-9665-4F763393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F978-0AC2-4AA6-A422-104237E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BFEE-2F92-4916-884D-DE821F0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3359-2CAA-4D07-AB59-17DBAD1D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D430-62EA-46D7-9D96-B7E4D7DC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26C-466C-43E8-9167-F0741DB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FFE-7BA8-4976-82AB-18DCE8F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942-915A-4C29-A394-68E87CA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BDD-8A85-4EDA-8285-2562C3F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DE5-DE25-4628-B21E-9EDFE97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BAC-9B0B-4B3D-BF49-FA027D5CBAC1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prstGeom prst="pie">
              <a:avLst/>
            </a:pr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A50-1D1B-4776-9189-55471C2CF822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A7B0-A131-4978-AEBB-8B1E8573BADF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prstGeom prst="pie">
              <a:avLst/>
            </a:pr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prstGeom prst="pie">
              <a:avLst/>
            </a:pr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prstGeom prst="pie">
              <a:avLst/>
            </a:pr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prstGeom prst="pie">
              <a:avLst/>
            </a:pr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prstGeom prst="pie">
              <a:avLst/>
            </a:pr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prstGeom prst="pie">
              <a:avLst/>
            </a:pr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prstGeom prst="pie">
              <a:avLst/>
            </a:pr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B6D-0F87-4342-874D-BD433FF20E30}" type="slidenum">
              <a:rPr b="0" lang="fa-IR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9280" y="184464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A Thuluth"/>
                <a:cs typeface="A Thuluth"/>
              </a:rPr>
              <a:t>سبک زندگی قرآنی</a:t>
            </a:r>
            <a:endParaRPr b="0" lang="en-US" sz="9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581360"/>
            <a:ext cx="45705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تدبّر در  آیات آخر سوره مبارکه فرقان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A Thuluth"/>
                <a:cs typeface="A  Mitra_1 (MRT)"/>
              </a:rPr>
              <a:t>ابوذر کارگر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91680"/>
            <a:ext cx="2455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اول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شناخت اجمال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911240"/>
            <a:ext cx="8424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ound Diagonal Corner Rectangle 2"/>
          <p:cNvSpPr/>
          <p:nvPr/>
        </p:nvSpPr>
        <p:spPr>
          <a:xfrm>
            <a:off x="6156360" y="793800"/>
            <a:ext cx="2016000" cy="914400"/>
          </a:xfrm>
          <a:prstGeom prst="pie">
            <a:avLst/>
          </a:prstGeom>
          <a:solidFill>
            <a:srgbClr val="f496cb"/>
          </a:solidFill>
          <a:ln cap="rnd" w="2844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س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2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</a:rPr>
              <a:t> قرآ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ound Diagonal Corner Rectangle 4"/>
          <p:cNvSpPr/>
          <p:nvPr/>
        </p:nvSpPr>
        <p:spPr>
          <a:xfrm>
            <a:off x="1874880" y="2825640"/>
            <a:ext cx="210024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دارای 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77</a:t>
            </a:r>
            <a:r>
              <a:rPr b="1" lang="fa-IR" sz="2000" spc="-1" strike="noStrike">
                <a:solidFill>
                  <a:srgbClr val="404040"/>
                </a:solidFill>
                <a:latin typeface="Tahoma"/>
              </a:rPr>
              <a:t> آیه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Round Diagonal Corner Rectangle 5"/>
          <p:cNvSpPr/>
          <p:nvPr/>
        </p:nvSpPr>
        <p:spPr>
          <a:xfrm>
            <a:off x="119160" y="3855960"/>
            <a:ext cx="17524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ahoma"/>
              </a:rPr>
              <a:t>مکّ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ound Diagonal Corner Rectangle 6"/>
          <p:cNvSpPr/>
          <p:nvPr/>
        </p:nvSpPr>
        <p:spPr>
          <a:xfrm>
            <a:off x="3995640" y="1795320"/>
            <a:ext cx="2089080" cy="91440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جداکننده بین حق وباطل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ound Diagonal Corner Rectangle 7"/>
          <p:cNvSpPr/>
          <p:nvPr/>
        </p:nvSpPr>
        <p:spPr>
          <a:xfrm>
            <a:off x="2924280" y="4221000"/>
            <a:ext cx="3951360" cy="1795680"/>
          </a:xfrm>
          <a:prstGeom prst="pie">
            <a:avLst/>
          </a:prstGeom>
          <a:solidFill>
            <a:srgbClr val="f496cb"/>
          </a:solidFill>
          <a:ln cap="rnd" w="38160">
            <a:solidFill>
              <a:srgbClr val="b21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مباحث سوره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مبداء ومعاد ، نبوت حضرت رسول مبارزه با شرک وبت پرستی  صفات مومنین راستی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3480"/>
            <a:ext cx="1655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دوم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ساختار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8360" y="2131920"/>
            <a:ext cx="8352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Round Single Corner Rectangle 3"/>
          <p:cNvSpPr/>
          <p:nvPr/>
        </p:nvSpPr>
        <p:spPr>
          <a:xfrm>
            <a:off x="658800" y="2079720"/>
            <a:ext cx="6946920" cy="48420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تا</a:t>
            </a:r>
            <a:r>
              <a:rPr b="1" lang="fa-I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rebuchet MS"/>
              </a:rPr>
              <a:t>77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 Single Corner Rectangle 4"/>
          <p:cNvSpPr/>
          <p:nvPr/>
        </p:nvSpPr>
        <p:spPr>
          <a:xfrm>
            <a:off x="6262560" y="3532320"/>
            <a:ext cx="151128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1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  و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ound Single Corner Rectangle 5"/>
          <p:cNvSpPr/>
          <p:nvPr/>
        </p:nvSpPr>
        <p:spPr>
          <a:xfrm>
            <a:off x="3611520" y="3517920"/>
            <a:ext cx="1346400" cy="43164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63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ound Single Corner Rectangle 6"/>
          <p:cNvSpPr/>
          <p:nvPr/>
        </p:nvSpPr>
        <p:spPr>
          <a:xfrm>
            <a:off x="797040" y="3514680"/>
            <a:ext cx="1377720" cy="434880"/>
          </a:xfrm>
          <a:prstGeom prst="pi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rebuchet MS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wn Arrow 7"/>
          <p:cNvSpPr/>
          <p:nvPr/>
        </p:nvSpPr>
        <p:spPr>
          <a:xfrm>
            <a:off x="6777000" y="29084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wn Arrow 8"/>
          <p:cNvSpPr/>
          <p:nvPr/>
        </p:nvSpPr>
        <p:spPr>
          <a:xfrm>
            <a:off x="4040280" y="2873520"/>
            <a:ext cx="484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1244520" y="291312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ounded Rectangle 10"/>
          <p:cNvSpPr/>
          <p:nvPr/>
        </p:nvSpPr>
        <p:spPr>
          <a:xfrm>
            <a:off x="6013440" y="4802040"/>
            <a:ext cx="227664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حمد وسپاس خدای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خالق آسمان ، ماه وخورشید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منظم کننده شب وروز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ounded Rectangle 11"/>
          <p:cNvSpPr/>
          <p:nvPr/>
        </p:nvSpPr>
        <p:spPr>
          <a:xfrm>
            <a:off x="3147840" y="4802040"/>
            <a:ext cx="226872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بیان صفات عباد الرّحمن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ounded Rectangle 12"/>
          <p:cNvSpPr/>
          <p:nvPr/>
        </p:nvSpPr>
        <p:spPr>
          <a:xfrm>
            <a:off x="423720" y="4802040"/>
            <a:ext cx="2125800" cy="161136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عاقبت تکذیب کنندگان آیات ح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wn Arrow 13"/>
          <p:cNvSpPr/>
          <p:nvPr/>
        </p:nvSpPr>
        <p:spPr>
          <a:xfrm>
            <a:off x="6777000" y="4154400"/>
            <a:ext cx="484200" cy="51444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wn Arrow 14"/>
          <p:cNvSpPr/>
          <p:nvPr/>
        </p:nvSpPr>
        <p:spPr>
          <a:xfrm>
            <a:off x="4040280" y="4167360"/>
            <a:ext cx="484200" cy="52200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Down Arrow 15"/>
          <p:cNvSpPr/>
          <p:nvPr/>
        </p:nvSpPr>
        <p:spPr>
          <a:xfrm>
            <a:off x="1244520" y="4167360"/>
            <a:ext cx="484200" cy="51264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1584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4000" y="2205000"/>
            <a:ext cx="720072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84360" y="2828880"/>
            <a:ext cx="6400800" cy="3385800"/>
          </a:xfrm>
          <a:prstGeom prst="rect">
            <a:avLst/>
          </a:prstGeom>
          <a:solidFill>
            <a:srgbClr val="f2ac19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تبارک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َ الَّذِي جَعَلَ فِي السَّمَاءِ بُرُوجًا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جَعَلَ فِيهَا سِرَاجًا وَقَمَرًا مُنِيرًا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وَهُوَ الَّذِي جَعَلَ اللَّيْلَ وَالنَّهَارَ خِلْفَة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ea typeface="_PDMS_Saleem_QuranFont"/>
              </a:rPr>
              <a:t> لِمَنْ أَرَادَ أَنْ يَذَّكَّرَ أَوْ أَرَادَ شُكُورًا </a:t>
            </a:r>
            <a:r>
              <a:rPr b="0" lang="ar-AE" sz="36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٦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643280" y="463680"/>
            <a:ext cx="215280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او</a:t>
            </a:r>
            <a:r>
              <a:rPr b="1" lang="en-US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ّ</a:t>
            </a: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ل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1512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916280"/>
            <a:ext cx="7923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Flowchart: Punched Tape 6"/>
          <p:cNvSpPr/>
          <p:nvPr/>
        </p:nvSpPr>
        <p:spPr>
          <a:xfrm>
            <a:off x="4788000" y="3413160"/>
            <a:ext cx="255744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اضع وفروتن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Flowchart: Punched Tape 7"/>
          <p:cNvSpPr/>
          <p:nvPr/>
        </p:nvSpPr>
        <p:spPr>
          <a:xfrm>
            <a:off x="4788000" y="4322880"/>
            <a:ext cx="2579760" cy="10080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برخورد با ملایت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ea typeface="A  Mitra_1 (MRT)"/>
              </a:rPr>
              <a:t> با جاهلا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Flowchart: Punched Tape 8"/>
          <p:cNvSpPr/>
          <p:nvPr/>
        </p:nvSpPr>
        <p:spPr>
          <a:xfrm>
            <a:off x="4788000" y="5435640"/>
            <a:ext cx="258768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سجده ونماز شب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Flowchart: Punched Tape 9"/>
          <p:cNvSpPr/>
          <p:nvPr/>
        </p:nvSpPr>
        <p:spPr>
          <a:xfrm>
            <a:off x="755640" y="341460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هادت به ناح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Flowchart: Punched Tape 10"/>
          <p:cNvSpPr/>
          <p:nvPr/>
        </p:nvSpPr>
        <p:spPr>
          <a:xfrm>
            <a:off x="755640" y="451332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عدم شرک وقتل وزنا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Flowchart: Punched Tape 11"/>
          <p:cNvSpPr/>
          <p:nvPr/>
        </p:nvSpPr>
        <p:spPr>
          <a:xfrm>
            <a:off x="755640" y="5522760"/>
            <a:ext cx="2448000" cy="804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PDMS_Saleem_QuranFont"/>
                <a:cs typeface="A  Mitra_1 (MRT)"/>
              </a:rPr>
              <a:t>توبه کردن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ounded Rectangle 14"/>
          <p:cNvSpPr/>
          <p:nvPr/>
        </p:nvSpPr>
        <p:spPr>
          <a:xfrm>
            <a:off x="2889360" y="2062080"/>
            <a:ext cx="2266920" cy="914400"/>
          </a:xfrm>
          <a:prstGeom prst="roundRect">
            <a:avLst>
              <a:gd name="adj" fmla="val 16667"/>
            </a:avLst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صفات عباد الر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ّ</a:t>
            </a:r>
            <a:r>
              <a:rPr b="1" lang="ar-AE" sz="1800" spc="-1" strike="noStrike">
                <a:solidFill>
                  <a:srgbClr val="ffffff"/>
                </a:solidFill>
                <a:latin typeface="Trebuchet MS"/>
              </a:rPr>
              <a:t>حم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788000" y="420840"/>
            <a:ext cx="204156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د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b0f0"/>
              </a:solidFill>
              <a:latin typeface="_PDMS_Saleem_QuranFont"/>
              <a:ea typeface="_PDMS_Saleem_QuranFon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501040" cy="5276880"/>
          </a:xfrm>
          <a:prstGeom prst="rect">
            <a:avLst/>
          </a:prstGeom>
          <a:ln w="0">
            <a:noFill/>
          </a:ln>
        </p:spPr>
      </p:pic>
      <p:sp>
        <p:nvSpPr>
          <p:cNvPr id="259" name="Flowchart: Punched Tape 3"/>
          <p:cNvSpPr/>
          <p:nvPr/>
        </p:nvSpPr>
        <p:spPr>
          <a:xfrm>
            <a:off x="4564080" y="1467000"/>
            <a:ext cx="2663640" cy="80460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توحی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Flowchart: Punched Tape 4"/>
          <p:cNvSpPr/>
          <p:nvPr/>
        </p:nvSpPr>
        <p:spPr>
          <a:xfrm>
            <a:off x="662040" y="4376880"/>
            <a:ext cx="2757600" cy="109188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بخل واسراف در انفا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Flowchart: Punched Tape 5"/>
          <p:cNvSpPr/>
          <p:nvPr/>
        </p:nvSpPr>
        <p:spPr>
          <a:xfrm>
            <a:off x="4572000" y="4376880"/>
            <a:ext cx="2664000" cy="94932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عدم قبول کردن کورکورانه حتی حرف ح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Flowchart: Punched Tape 6"/>
          <p:cNvSpPr/>
          <p:nvPr/>
        </p:nvSpPr>
        <p:spPr>
          <a:xfrm>
            <a:off x="4786200" y="2857680"/>
            <a:ext cx="2449800" cy="108396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روشنی چشم از طریق همسر وفرزندا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Flowchart: Punched Tape 7"/>
          <p:cNvSpPr/>
          <p:nvPr/>
        </p:nvSpPr>
        <p:spPr>
          <a:xfrm>
            <a:off x="571680" y="2590920"/>
            <a:ext cx="2847960" cy="1266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عا برای پرهیزکار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وپیشوای پرهیزکاران شدن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Flowchart: Punched Tape 8"/>
          <p:cNvSpPr/>
          <p:nvPr/>
        </p:nvSpPr>
        <p:spPr>
          <a:xfrm>
            <a:off x="785880" y="1571760"/>
            <a:ext cx="2633760" cy="699840"/>
          </a:xfrm>
          <a:prstGeom prst="flowChartPunchedTap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درخواست دوری از جهن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1587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تفهّم سوم</a:t>
            </a:r>
            <a:br>
              <a:rPr sz="4000"/>
            </a:br>
            <a:r>
              <a:rPr b="1" lang="en-US" sz="4000" spc="-1" strike="noStrike">
                <a:solidFill>
                  <a:srgbClr val="00b0f0"/>
                </a:solidFill>
                <a:latin typeface="_PDMS_Saleem_QuranFont"/>
                <a:cs typeface="_PDMS_Saleem_QuranFont"/>
              </a:rPr>
              <a:t>جهت یابی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2160720"/>
            <a:ext cx="6913440" cy="3355920"/>
          </a:xfrm>
          <a:prstGeom prst="rect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قُلْ مَا يَعْبَأُ بِكُمْ رَبِّي لَوْلَا دُعَاؤُكُمْ فَقَدْ كَذَّبْتُمْ</a:t>
            </a: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cs typeface="A  Mitra_2 (MRT)"/>
              </a:rPr>
              <a:t>فَسَوْفَ يَكُونُ لِزَامًا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_PDMS_Saleem_QuranFont"/>
                <a:ea typeface="A  Mitra_2 (MRT)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_PDMS_Saleem_QuranFont"/>
                <a:cs typeface="A  Mitra_2 (MRT)"/>
              </a:rPr>
              <a:t>بگو اگر دعا وعبادت شما نباشد پروردگار من اعتنایی به شما ندارد شما که تکذیب کرده اید به زودی نتیجه اش را خواهید دید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32360" y="463680"/>
            <a:ext cx="1849320" cy="9144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49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b0f0"/>
                </a:solidFill>
                <a:latin typeface="Trebuchet MS"/>
                <a:cs typeface="A  Mitra_5 (MRT)"/>
              </a:rPr>
              <a:t>دسته سو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7840" y="692280"/>
            <a:ext cx="46897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_PDMS_Saleem_QuranFont"/>
                <a:cs typeface="_PDMS_Saleem_QuranFont"/>
              </a:rPr>
              <a:t>جهت هدایتی سیاق</a:t>
            </a:r>
            <a:endParaRPr b="0" lang="en-US" sz="6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1800" y="2420640"/>
            <a:ext cx="6842160" cy="1989000"/>
          </a:xfrm>
          <a:prstGeom prst="rect">
            <a:avLst/>
          </a:prstGeom>
          <a:gradFill rotWithShape="0">
            <a:gsLst>
              <a:gs pos="0">
                <a:srgbClr val="f3b03f"/>
              </a:gs>
              <a:gs pos="100000">
                <a:srgbClr val="e19e13"/>
              </a:gs>
            </a:gsLst>
            <a:lin ang="5400000"/>
          </a:gradFill>
          <a:ln cap="rnd" w="12600">
            <a:solidFill>
              <a:srgbClr val="f2ac1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40120" indent="-2401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_PDMS_Saleem_QuranFont"/>
                <a:cs typeface="_PDMS_Saleem_QuranFont"/>
              </a:rPr>
              <a:t>به سبک خدا زندگی کردن  ، باعث سعادت اخروی می شود</a:t>
            </a:r>
            <a:endParaRPr b="0" lang="en-US" sz="5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82960" y="2923920"/>
            <a:ext cx="266544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آسان شدن امر ازدواج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درمان تنگی نفس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3068280"/>
            <a:ext cx="39132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c80e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ا یقین مبعوث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دون حسابرسی وارد بهشت 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هیچ وقت مورد غذاب خداوند واقع        نمی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cs typeface="A  Mitra_1 (MRT)"/>
              </a:rPr>
              <a:t>بعد از مرگ هفتاد هزارملک با دعا واستغفار اورا همراهی کنند تا در قبر گذاشته شود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Oval 3"/>
          <p:cNvSpPr/>
          <p:nvPr/>
        </p:nvSpPr>
        <p:spPr>
          <a:xfrm>
            <a:off x="1190520" y="430200"/>
            <a:ext cx="185112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فضائل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5114880" y="477720"/>
            <a:ext cx="2000160" cy="914400"/>
          </a:xfrm>
          <a:prstGeom prst="ellipse">
            <a:avLst/>
          </a:prstGeom>
          <a:solidFill>
            <a:srgbClr val="f2ac19"/>
          </a:solidFill>
          <a:ln cap="rnd" w="19080">
            <a:solidFill>
              <a:srgbClr val="b27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آثار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Down Arrow 5"/>
          <p:cNvSpPr/>
          <p:nvPr/>
        </p:nvSpPr>
        <p:spPr>
          <a:xfrm>
            <a:off x="5724360" y="1727280"/>
            <a:ext cx="78264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own Arrow 6"/>
          <p:cNvSpPr/>
          <p:nvPr/>
        </p:nvSpPr>
        <p:spPr>
          <a:xfrm>
            <a:off x="1755720" y="1727280"/>
            <a:ext cx="720720" cy="71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45:31Z</dcterms:created>
  <dc:creator>ZBC</dc:creator>
  <dc:description/>
  <dc:language>en-US</dc:language>
  <cp:lastModifiedBy>jahad-sku</cp:lastModifiedBy>
  <dcterms:modified xsi:type="dcterms:W3CDTF">2016-05-04T07:35:39Z</dcterms:modified>
  <cp:revision>119</cp:revision>
  <dc:subject/>
  <dc:title>آرامش</dc:title>
</cp:coreProperties>
</file>