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1254-8813-4C63-B7BF-83A68B36F50A}" type="slidenum"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575E-5620-4FD0-9944-0A332A60D537}" type="slidenum"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3C89-6E51-49D9-8D89-4441BFEFC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B0B0-3544-4DA7-9C6B-6280C999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BF90-13BA-4E3D-853F-B940C1E9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FE91-A597-4825-95E6-1D32FC718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3ECF-A8DF-41D6-8A45-9AD1DE25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AD62-3DFC-48AE-93B6-2CEDC9E0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FF5D-8361-4CC3-AD12-B30D37F5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A112-6BD6-49FE-9AF9-58A1AED6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965C-A7E6-421F-9672-963EA528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5EDF-B9AB-4BF8-83F9-540CD026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1726-6006-4D98-9562-D9ED42B8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4052-DAE3-43EF-A215-E2EA7BEA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7109-E050-4A87-94B3-2F35743F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2396-0008-4390-BD2A-9AF7E860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302B-5C16-4212-88B4-1901B873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8F5A-8EBA-4244-86CD-1F0B8CFEC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E399-B87A-421B-AFE5-04288329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8C829-89EF-4760-AD20-95BEA759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9A72E-AA17-42BE-9FD5-58C53FB9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F9DDE-6327-4719-B4ED-F0EE1519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67B49-1925-415A-BCC5-128885BB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74572-3276-4E15-B7BA-DDD2987B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4977-E162-465A-89EC-F0F83893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D81AA-3760-454D-BCB8-3446FBD8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DB5E2-71C7-4302-9B67-C8237D97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BED62-29D6-42BC-A4EE-23CD6AA6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9FDB2-B198-4F1E-AE78-E73DE0AB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CCAE5-0D98-4C84-8BDB-29655368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D06FD-2F95-4A98-BDB8-D4BF8A8F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A0B71-5A7E-4AA9-968B-5EFE0072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B8269-D0E0-4707-8637-F640815D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FE7F1-C1D8-45F7-B2DD-78E35D0C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52BD7-81FA-4BD3-B4A6-BF49E2B9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1464-1E0F-4BC4-B562-9AC81316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696A5-745D-41AC-9C65-B245050A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4A4BB-29A7-4D8D-BCDD-C9D53FBF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C4E23-E809-4E2F-B81E-2FC0A7C8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4FD1F-B0AA-4E41-B567-E4B4B551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74EDC-C134-4553-9D68-81607A83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4249A-6A6A-4FB6-8E0C-6A660E08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BF589-0851-45B9-9A71-A34E66A3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0F751-0AE4-4756-BCC5-0DE58F91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EB6BD-0DFD-4DB1-87D0-14CBB10A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BB23-5726-4939-81CA-F72C504D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2A69-6F94-4B4D-8A35-43EFE541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42E0-A361-416A-A47E-6B591942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4FA9-C48F-4156-B8DD-14B247C2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13BE-6297-45E1-AAF1-AEF33300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prstGeom prst="pie">
              <a:avLst/>
            </a:pr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400" y="-7560"/>
              <a:ext cx="1947960" cy="6865560"/>
            </a:xfrm>
            <a:prstGeom prst="pie">
              <a:avLst/>
            </a:pr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prstGeom prst="pie">
              <a:avLst/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prstGeom prst="pie">
              <a:avLst/>
            </a:pr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prstGeom prst="pie">
              <a:avLst/>
            </a:pr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600" y="-7920"/>
              <a:ext cx="1066680" cy="6865560"/>
            </a:xfrm>
            <a:prstGeom prst="pie">
              <a:avLst/>
            </a:pr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040" y="4893480"/>
              <a:ext cx="1094040" cy="1963800"/>
            </a:xfrm>
            <a:prstGeom prst="pie">
              <a:avLst/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7D16-DB1D-4A60-AA56-B720EBC4A03F}" type="slidenum">
              <a:rPr b="0" lang="fa-IR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2200" y="360"/>
              <a:ext cx="2269440" cy="6865560"/>
            </a:xfrm>
            <a:prstGeom prst="pie">
              <a:avLst/>
            </a:pr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400" y="-7560"/>
              <a:ext cx="1947960" cy="6865560"/>
            </a:xfrm>
            <a:prstGeom prst="pie">
              <a:avLst/>
            </a:pr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8400" y="3920040"/>
              <a:ext cx="2513520" cy="2937600"/>
            </a:xfrm>
            <a:prstGeom prst="pie">
              <a:avLst/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1000" y="-7560"/>
              <a:ext cx="2142720" cy="6865560"/>
            </a:xfrm>
            <a:prstGeom prst="pie">
              <a:avLst/>
            </a:pr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200" y="-7560"/>
              <a:ext cx="857520" cy="6865560"/>
            </a:xfrm>
            <a:prstGeom prst="pie">
              <a:avLst/>
            </a:pr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94600" y="-7920"/>
              <a:ext cx="1066680" cy="6865560"/>
            </a:xfrm>
            <a:prstGeom prst="pie">
              <a:avLst/>
            </a:pr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9040" y="4893480"/>
              <a:ext cx="1094040" cy="1963800"/>
            </a:xfrm>
            <a:prstGeom prst="pie">
              <a:avLst/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prstGeom prst="pie">
              <a:avLst/>
            </a:pr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262C-6496-4299-8E2C-E03DBD39A5FD}" type="slidenum">
              <a:rPr b="0" lang="fa-IR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prstGeom prst="pie">
              <a:avLst/>
            </a:pr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400" y="-7560"/>
              <a:ext cx="1947960" cy="6865560"/>
            </a:xfrm>
            <a:prstGeom prst="pie">
              <a:avLst/>
            </a:pr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prstGeom prst="pie">
              <a:avLst/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prstGeom prst="pie">
              <a:avLst/>
            </a:pr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prstGeom prst="pie">
              <a:avLst/>
            </a:pr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600" y="-7920"/>
              <a:ext cx="1066680" cy="6865560"/>
            </a:xfrm>
            <a:prstGeom prst="pie">
              <a:avLst/>
            </a:pr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040" y="4893480"/>
              <a:ext cx="1094040" cy="1963800"/>
            </a:xfrm>
            <a:prstGeom prst="pie">
              <a:avLst/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5CF3-B2DE-411E-BE4F-B5EDC9BA4B41}" type="slidenum">
              <a:rPr b="0" lang="fa-IR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prstGeom prst="pie">
              <a:avLst/>
            </a:pr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400" y="-7560"/>
              <a:ext cx="1947960" cy="6865560"/>
            </a:xfrm>
            <a:prstGeom prst="pie">
              <a:avLst/>
            </a:pr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prstGeom prst="pie">
              <a:avLst/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prstGeom prst="pie">
              <a:avLst/>
            </a:pr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prstGeom prst="pie">
              <a:avLst/>
            </a:pr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600" y="-7920"/>
              <a:ext cx="1066680" cy="6865560"/>
            </a:xfrm>
            <a:prstGeom prst="pie">
              <a:avLst/>
            </a:pr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040" y="4893480"/>
              <a:ext cx="1094040" cy="1963800"/>
            </a:xfrm>
            <a:prstGeom prst="pie">
              <a:avLst/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E623-0C08-471C-89B4-A800A1AF7326}" type="slidenum">
              <a:rPr b="0" lang="fa-IR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55920" y="1557000"/>
            <a:ext cx="289728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9600" spc="-1" strike="noStrike">
                <a:solidFill>
                  <a:srgbClr val="002060"/>
                </a:solidFill>
                <a:latin typeface="A Thuluth"/>
                <a:cs typeface="A Thuluth"/>
              </a:rPr>
              <a:t>تدبر</a:t>
            </a:r>
            <a:endParaRPr b="0" lang="en-US" sz="9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619280" y="4581360"/>
            <a:ext cx="457056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4200" spc="-1" strike="noStrike">
                <a:solidFill>
                  <a:srgbClr val="000000"/>
                </a:solidFill>
                <a:latin typeface="A Thuluth"/>
                <a:cs typeface="A  Mitra_1 (MRT)"/>
              </a:rPr>
              <a:t>ابوذر کارگر</a:t>
            </a:r>
            <a:endParaRPr b="0" lang="en-US" sz="42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8560" y="419040"/>
            <a:ext cx="5329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تدبردر قرآن:</a:t>
            </a:r>
            <a:br>
              <a:rPr sz="4000"/>
            </a:br>
            <a:r>
              <a:rPr b="0" lang="fa-IR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تفهم روشمند وهماهنگ ظاهر قرآن کریم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50920" y="1911240"/>
            <a:ext cx="842472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404040"/>
                </a:solidFill>
                <a:latin typeface="Trebuchet MS"/>
              </a:rPr>
              <a:t>                                            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</a:rPr>
              <a:t>میان سورهای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404040"/>
                </a:solidFill>
                <a:latin typeface="Trebuchet MS"/>
              </a:rPr>
              <a:t>                                            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</a:rPr>
              <a:t>درون سوره ا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404040"/>
                </a:solidFill>
                <a:latin typeface="Trebuchet MS"/>
              </a:rPr>
              <a:t>                                            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</a:rPr>
              <a:t>میان موضوع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404040"/>
                </a:solidFill>
                <a:latin typeface="Trebuchet MS"/>
              </a:rPr>
              <a:t>                                            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</a:rPr>
              <a:t>درون موضوع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6276960" y="1995480"/>
            <a:ext cx="914400" cy="3087720"/>
          </a:xfrm>
          <a:prstGeom prst="rect">
            <a:avLst/>
          </a:prstGeom>
          <a:solidFill>
            <a:srgbClr val="5fcbef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rebuchet MS"/>
              </a:rPr>
              <a:t>تدبر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rebuchet MS"/>
              </a:rPr>
              <a:t>در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rebuchet MS"/>
              </a:rPr>
              <a:t>قرآن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Left Arrow 9"/>
          <p:cNvSpPr/>
          <p:nvPr/>
        </p:nvSpPr>
        <p:spPr>
          <a:xfrm>
            <a:off x="5265720" y="2176560"/>
            <a:ext cx="719280" cy="484200"/>
          </a:xfrm>
          <a:prstGeom prst="leftArrow">
            <a:avLst>
              <a:gd name="adj1" fmla="val 50000"/>
              <a:gd name="adj2" fmla="val 49991"/>
            </a:avLst>
          </a:prstGeom>
          <a:solidFill>
            <a:srgbClr val="5fcbef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Left Arrow 10"/>
          <p:cNvSpPr/>
          <p:nvPr/>
        </p:nvSpPr>
        <p:spPr>
          <a:xfrm>
            <a:off x="5208480" y="4576680"/>
            <a:ext cx="717480" cy="484200"/>
          </a:xfrm>
          <a:prstGeom prst="leftArrow">
            <a:avLst>
              <a:gd name="adj1" fmla="val 50000"/>
              <a:gd name="adj2" fmla="val 50058"/>
            </a:avLst>
          </a:prstGeom>
          <a:solidFill>
            <a:srgbClr val="5fcbef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3894120" y="1962000"/>
            <a:ext cx="1079640" cy="914400"/>
          </a:xfrm>
          <a:prstGeom prst="rect">
            <a:avLst/>
          </a:prstGeom>
          <a:solidFill>
            <a:srgbClr val="5fcbef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rebuchet MS"/>
              </a:rPr>
              <a:t>ترتیب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3894120" y="4356000"/>
            <a:ext cx="1079640" cy="914400"/>
          </a:xfrm>
          <a:prstGeom prst="rect">
            <a:avLst/>
          </a:prstGeom>
          <a:solidFill>
            <a:srgbClr val="5fcbef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rebuchet MS"/>
              </a:rPr>
              <a:t>موضوع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Right Brace 21"/>
          <p:cNvSpPr/>
          <p:nvPr/>
        </p:nvSpPr>
        <p:spPr>
          <a:xfrm>
            <a:off x="3616200" y="1911240"/>
            <a:ext cx="155880" cy="914400"/>
          </a:xfrm>
          <a:custGeom>
            <a:avLst/>
            <a:gdLst>
              <a:gd name="textAreaLeft" fmla="*/ 0 w 155880"/>
              <a:gd name="textAreaRight" fmla="*/ 56160 w 15588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noFill/>
          <a:ln cap="rnd" w="12600">
            <a:solidFill>
              <a:srgbClr val="5fcb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Right Brace 22"/>
          <p:cNvSpPr/>
          <p:nvPr/>
        </p:nvSpPr>
        <p:spPr>
          <a:xfrm>
            <a:off x="3633840" y="4361040"/>
            <a:ext cx="146160" cy="915840"/>
          </a:xfrm>
          <a:custGeom>
            <a:avLst/>
            <a:gdLst>
              <a:gd name="textAreaLeft" fmla="*/ 0 w 146160"/>
              <a:gd name="textAreaRight" fmla="*/ 52560 w 146160"/>
              <a:gd name="textAreaTop" fmla="*/ 3600 h 915840"/>
              <a:gd name="textAreaBottom" fmla="*/ 912240 h 91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4"/>
                  <a:pt x="10800" y="288"/>
                </a:cubicBezTo>
                <a:lnTo>
                  <a:pt x="10800" y="10512"/>
                </a:lnTo>
                <a:cubicBezTo>
                  <a:pt x="10800" y="10656"/>
                  <a:pt x="16200" y="10800"/>
                  <a:pt x="21600" y="10800"/>
                </a:cubicBezTo>
                <a:cubicBezTo>
                  <a:pt x="16200" y="10800"/>
                  <a:pt x="10800" y="10944"/>
                  <a:pt x="10800" y="11088"/>
                </a:cubicBezTo>
                <a:lnTo>
                  <a:pt x="10800" y="21312"/>
                </a:lnTo>
                <a:cubicBezTo>
                  <a:pt x="10800" y="21456"/>
                  <a:pt x="5400" y="21600"/>
                  <a:pt x="0" y="21600"/>
                </a:cubicBezTo>
              </a:path>
            </a:pathLst>
          </a:custGeom>
          <a:noFill/>
          <a:ln cap="rnd" w="12600">
            <a:solidFill>
              <a:srgbClr val="5fcb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split dir="out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7840" y="692280"/>
            <a:ext cx="4689720" cy="94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6000" spc="-1" strike="noStrike">
                <a:solidFill>
                  <a:srgbClr val="000000"/>
                </a:solidFill>
                <a:latin typeface="_PDMS_Saleem_QuranFont"/>
                <a:cs typeface="_PDMS_Saleem_QuranFont"/>
              </a:rPr>
              <a:t>فرق تدبر با تفسیر</a:t>
            </a:r>
            <a:br>
              <a:rPr sz="6000"/>
            </a:br>
            <a:endParaRPr b="0" lang="en-US" sz="6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78920" y="2276280"/>
            <a:ext cx="7201080" cy="2592360"/>
          </a:xfrm>
          <a:prstGeom prst="rect">
            <a:avLst/>
          </a:prstGeom>
          <a:gradFill rotWithShape="0">
            <a:gsLst>
              <a:gs pos="0">
                <a:srgbClr val="56b461"/>
              </a:gs>
              <a:gs pos="100000">
                <a:srgbClr val="3ca14a"/>
              </a:gs>
            </a:gsLst>
            <a:lin ang="5400000"/>
          </a:gradFill>
          <a:ln cap="rnd" w="12600">
            <a:solidFill>
              <a:srgbClr val="42b051"/>
            </a:solidFill>
            <a:miter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 fontScale="75000"/>
          </a:bodyPr>
          <a:p>
            <a:pPr marL="257040" indent="-2570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_PDMS_Saleem_QuranFont"/>
                <a:cs typeface="_PDMS_Saleem_QuranFont"/>
              </a:rPr>
              <a:t>تدبر استفاده از ظاهر قرآن است</a:t>
            </a:r>
            <a:br>
              <a:rPr sz="4800"/>
            </a:br>
            <a:r>
              <a:rPr b="1" lang="fa-IR" sz="4800" spc="-1" strike="noStrike">
                <a:solidFill>
                  <a:srgbClr val="000000"/>
                </a:solidFill>
                <a:latin typeface="_PDMS_Saleem_QuranFont"/>
                <a:cs typeface="_PDMS_Saleem_QuranFont"/>
              </a:rPr>
              <a:t>تفسیر استفاده از لایه های معرفتی قرآن است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2:45:31Z</dcterms:created>
  <dc:creator>ZBC</dc:creator>
  <dc:description/>
  <dc:language>en-US</dc:language>
  <cp:lastModifiedBy>jahad-sku</cp:lastModifiedBy>
  <dcterms:modified xsi:type="dcterms:W3CDTF">2016-05-04T07:35:11Z</dcterms:modified>
  <cp:revision>119</cp:revision>
  <dc:subject/>
  <dc:title>آرامش</dc:title>
</cp:coreProperties>
</file>