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006-596E-4516-A8BD-3045818792DC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51D1-8413-4802-BBDC-158E543F3448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0EE-04BF-49E7-80D4-56A95F4E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4C0-DFDC-4A8A-92B7-7BE46FBD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B31-18CE-42C8-9DB2-3921145F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214-2913-4AA2-9A1E-55839793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947-FFD9-4B63-94FF-C90A9B4C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3966-D439-482D-82F8-AD28B675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E16-975A-4279-A708-ED849D35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7D4-D772-4CA3-A6D1-45606639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45A-BEEA-4220-B12D-7A66AA8C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D4B-246F-4C1F-8512-E2EA774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859F-7174-4711-AEA7-880B4A0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1E1-A4EF-457A-BB01-1FE24F87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592B-384D-41B9-86C6-EFFA2E8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DFDC-D178-4997-AFDD-5356C5C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A3E-D4D9-4828-88B4-C793BF7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843-4CA1-4CCA-9A33-C651E15A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8611-4F31-4228-A803-C32C7975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547A-C13F-4E67-A6E3-F2FE9C86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214E-D510-48AE-939D-2405DFF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C654-264E-4E4D-972C-E70EF2B0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E804-F927-4BA1-9B33-09E7030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A51C-0333-4FB1-8AEE-5329B997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357-7BD7-4273-AD28-768848A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BA30-06A5-400F-A170-E29397D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C209-B912-463E-AA49-06A53D7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D78C-F69A-4E1E-9C6E-1724242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369A-892A-4DF3-BC08-E879D30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859B-E4A8-43D6-A8D1-012D18EF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FD76-29BE-47CE-BCA8-2A5A0284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60FF-DA65-4A85-ABAE-7CB7A0B5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80DA-A4F4-46D3-B475-4BF5EFCD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7A17-1C80-495C-BF6B-F50810A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63238-D145-4757-A9CA-78020AA5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C47-631B-4861-B51A-E0962B46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7014-F43D-40CB-B8C4-EB65650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8FB3-E7DC-44C4-A43C-3F02DA44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0B42-02FB-4284-8E83-574F0A06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EE86-5629-4B1B-847E-DF11DAE2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8A42-0735-4A5E-BA3C-32E2A7F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5672-C0D2-46F9-94F3-8767DB0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467D-D6E9-4786-A9FF-DF6D26EC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EDB58-9FFF-4F17-AE6E-A293259D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3733-AF05-4A20-A01D-DEE03E7D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0D6-208A-4B62-BD08-E80B51C2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979-A4EF-435D-8FCE-10F759B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BE2-BFCF-4BF0-8428-818D0FC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1EF-B3E6-4A39-AC13-2FC5F6F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BF4-31FC-4C51-A091-C7C7ED2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1B98-795A-432F-9372-4DD4F84815ED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4F42-541E-46C9-A23E-B733C332BDAF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F90D-41A9-4B49-BBEE-696E1A934B63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4A49-10BB-4F54-9F10-5F37664ED9B3}" type="slidenum">
              <a:rPr b="0" lang="fa-I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9280" y="184464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600" spc="-1" strike="noStrike">
                <a:solidFill>
                  <a:srgbClr val="002060"/>
                </a:solidFill>
                <a:latin typeface="A Thuluth"/>
                <a:cs typeface="A Thuluth"/>
              </a:rPr>
              <a:t>سبک زندگی قرآنی</a:t>
            </a:r>
            <a:endParaRPr b="0" lang="en-US" sz="8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تدبّر در آیات  سوره مبارکه نور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5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320" y="-3600"/>
            <a:ext cx="201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اول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شناخت اجمال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1187280" y="2836800"/>
            <a:ext cx="5400720" cy="233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7632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مباحث سوره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سفارش به رعایت عفت وپاکدامنی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  Mitra_1 (MRT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مجازات زنا کاران وکسانی که به مومنان تهمت می زنند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  Mitra_1 (MRT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cs typeface="A  Mitra_1 (MRT)"/>
              </a:rPr>
              <a:t>ماجرای معروف افک                                           حکم حجاب ورعایت پاکدامنی برای جلوگیری از انحرافات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4859280" y="1614600"/>
            <a:ext cx="241308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سوره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قرآ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80880" y="1614600"/>
            <a:ext cx="247680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نام سوره از آیه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859280" y="5492880"/>
            <a:ext cx="241308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دارای </a:t>
            </a: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64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 آی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80880" y="5489640"/>
            <a:ext cx="2476800" cy="914400"/>
          </a:xfrm>
          <a:prstGeom prst="ellipse">
            <a:avLst/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مدن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3480"/>
            <a:ext cx="1655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دوم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ساختار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8360" y="2131920"/>
            <a:ext cx="8352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Round Single Corner Rectangle 3"/>
          <p:cNvSpPr/>
          <p:nvPr/>
        </p:nvSpPr>
        <p:spPr>
          <a:xfrm>
            <a:off x="658800" y="2079720"/>
            <a:ext cx="6946920" cy="484200"/>
          </a:xfrm>
          <a:prstGeom prst="pi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27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تا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34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 Single Corner Rectangle 4"/>
          <p:cNvSpPr/>
          <p:nvPr/>
        </p:nvSpPr>
        <p:spPr>
          <a:xfrm>
            <a:off x="6262560" y="3532320"/>
            <a:ext cx="1343160" cy="43164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تا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ound Single Corner Rectangle 5"/>
          <p:cNvSpPr/>
          <p:nvPr/>
        </p:nvSpPr>
        <p:spPr>
          <a:xfrm>
            <a:off x="4425840" y="3548160"/>
            <a:ext cx="1344600" cy="43164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fa-I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و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ound Single Corner Rectangle 6"/>
          <p:cNvSpPr/>
          <p:nvPr/>
        </p:nvSpPr>
        <p:spPr>
          <a:xfrm>
            <a:off x="2579760" y="3529080"/>
            <a:ext cx="1377720" cy="43488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wn Arrow 7"/>
          <p:cNvSpPr/>
          <p:nvPr/>
        </p:nvSpPr>
        <p:spPr>
          <a:xfrm>
            <a:off x="6777000" y="29084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wn Arrow 8"/>
          <p:cNvSpPr/>
          <p:nvPr/>
        </p:nvSpPr>
        <p:spPr>
          <a:xfrm>
            <a:off x="4962600" y="2908440"/>
            <a:ext cx="48564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052800" y="292752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ounded Rectangle 10"/>
          <p:cNvSpPr/>
          <p:nvPr/>
        </p:nvSpPr>
        <p:spPr>
          <a:xfrm>
            <a:off x="6262560" y="4802040"/>
            <a:ext cx="157032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احکام ورود به منزل دیگران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ounded Rectangle 11"/>
          <p:cNvSpPr/>
          <p:nvPr/>
        </p:nvSpPr>
        <p:spPr>
          <a:xfrm>
            <a:off x="4425840" y="4802040"/>
            <a:ext cx="160524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احکام نگاه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ounded Rectangle 12"/>
          <p:cNvSpPr/>
          <p:nvPr/>
        </p:nvSpPr>
        <p:spPr>
          <a:xfrm>
            <a:off x="2486160" y="4802040"/>
            <a:ext cx="157788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مسائل ازدواج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wn Arrow 13"/>
          <p:cNvSpPr/>
          <p:nvPr/>
        </p:nvSpPr>
        <p:spPr>
          <a:xfrm>
            <a:off x="6777000" y="4154400"/>
            <a:ext cx="484200" cy="51444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wn Arrow 14"/>
          <p:cNvSpPr/>
          <p:nvPr/>
        </p:nvSpPr>
        <p:spPr>
          <a:xfrm>
            <a:off x="4962600" y="4151160"/>
            <a:ext cx="485640" cy="503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Down Arrow 15"/>
          <p:cNvSpPr/>
          <p:nvPr/>
        </p:nvSpPr>
        <p:spPr>
          <a:xfrm>
            <a:off x="3141720" y="4151160"/>
            <a:ext cx="484200" cy="51300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Down Arrow 16"/>
          <p:cNvSpPr/>
          <p:nvPr/>
        </p:nvSpPr>
        <p:spPr>
          <a:xfrm>
            <a:off x="1141560" y="2927520"/>
            <a:ext cx="484200" cy="345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ound Single Corner Rectangle 17"/>
          <p:cNvSpPr/>
          <p:nvPr/>
        </p:nvSpPr>
        <p:spPr>
          <a:xfrm>
            <a:off x="695160" y="3559320"/>
            <a:ext cx="1392480" cy="428400"/>
          </a:xfrm>
          <a:prstGeom prst="pie">
            <a:avLst/>
          </a:prstGeom>
          <a:gradFill rotWithShape="0">
            <a:gsLst>
              <a:gs pos="0">
                <a:srgbClr val="f5cdc3"/>
              </a:gs>
              <a:gs pos="100000">
                <a:srgbClr val="ea815c"/>
              </a:gs>
            </a:gsLst>
            <a:lin ang="5400000"/>
          </a:gradFill>
          <a:ln cap="rnd" w="1260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Down Arrow 18"/>
          <p:cNvSpPr/>
          <p:nvPr/>
        </p:nvSpPr>
        <p:spPr>
          <a:xfrm>
            <a:off x="1149480" y="4151160"/>
            <a:ext cx="484200" cy="513000"/>
          </a:xfrm>
          <a:prstGeom prst="downArrow">
            <a:avLst>
              <a:gd name="adj1" fmla="val 50000"/>
              <a:gd name="adj2" fmla="val 5009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ounded Rectangle 19"/>
          <p:cNvSpPr/>
          <p:nvPr/>
        </p:nvSpPr>
        <p:spPr>
          <a:xfrm>
            <a:off x="539640" y="4802040"/>
            <a:ext cx="1584360" cy="714600"/>
          </a:xfrm>
          <a:prstGeom prst="roundRect">
            <a:avLst>
              <a:gd name="adj" fmla="val 16667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مثال سرگذشت نیاکا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1512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916280"/>
            <a:ext cx="7923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Flowchart: Punched Tape 6"/>
          <p:cNvSpPr/>
          <p:nvPr/>
        </p:nvSpPr>
        <p:spPr>
          <a:xfrm>
            <a:off x="4427640" y="2133720"/>
            <a:ext cx="3024000" cy="12222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با خبر کردن صاحب خانه وارد منزل دیگران شو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lowchart: Punched Tape 7"/>
          <p:cNvSpPr/>
          <p:nvPr/>
        </p:nvSpPr>
        <p:spPr>
          <a:xfrm>
            <a:off x="638280" y="5343480"/>
            <a:ext cx="3024000" cy="125424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در صورت نبود ن صاحب خانه وارد نشو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lowchart: Punched Tape 9"/>
          <p:cNvSpPr/>
          <p:nvPr/>
        </p:nvSpPr>
        <p:spPr>
          <a:xfrm>
            <a:off x="2484360" y="3645000"/>
            <a:ext cx="3311640" cy="12240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در صورتی که به شما اجازه ورود ندادند سریع برگرد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292720" y="353880"/>
            <a:ext cx="163368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اول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23400"/>
            <a:ext cx="1944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7640" y="765000"/>
            <a:ext cx="8567640" cy="5276880"/>
          </a:xfrm>
          <a:prstGeom prst="rect">
            <a:avLst/>
          </a:prstGeom>
          <a:ln w="0">
            <a:noFill/>
          </a:ln>
        </p:spPr>
      </p:pic>
      <p:sp>
        <p:nvSpPr>
          <p:cNvPr id="255" name="Flowchart: Punched Tape 3"/>
          <p:cNvSpPr/>
          <p:nvPr/>
        </p:nvSpPr>
        <p:spPr>
          <a:xfrm>
            <a:off x="4859280" y="3483000"/>
            <a:ext cx="3465720" cy="129060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به اجنبی نگاه نک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Flowchart: Punched Tape 5"/>
          <p:cNvSpPr/>
          <p:nvPr/>
        </p:nvSpPr>
        <p:spPr>
          <a:xfrm>
            <a:off x="360360" y="3483000"/>
            <a:ext cx="3456000" cy="117648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زینتها ی خود را از نگاه نامحرم بپوشا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Flowchart: Punched Tape 6"/>
          <p:cNvSpPr/>
          <p:nvPr/>
        </p:nvSpPr>
        <p:spPr>
          <a:xfrm>
            <a:off x="4859280" y="5229360"/>
            <a:ext cx="3465720" cy="128088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خود را ازنگاه حرام بپوشان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Flowchart: Punched Tape 8"/>
          <p:cNvSpPr/>
          <p:nvPr/>
        </p:nvSpPr>
        <p:spPr>
          <a:xfrm>
            <a:off x="360360" y="5232240"/>
            <a:ext cx="3456000" cy="1290960"/>
          </a:xfrm>
          <a:prstGeom prst="flowChartPunchedTape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موقع را رفتن پای بر زمین نکوبی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5106960" y="355680"/>
            <a:ext cx="18511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د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Down Arrow 11"/>
          <p:cNvSpPr/>
          <p:nvPr/>
        </p:nvSpPr>
        <p:spPr>
          <a:xfrm>
            <a:off x="2556000" y="1952640"/>
            <a:ext cx="331128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b91e"/>
          </a:solidFill>
          <a:ln cap="rnd" w="19080">
            <a:solidFill>
              <a:srgbClr val="a9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دستور می ده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587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932360" y="463680"/>
            <a:ext cx="18493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س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Vertical Scroll 5"/>
          <p:cNvSpPr/>
          <p:nvPr/>
        </p:nvSpPr>
        <p:spPr>
          <a:xfrm>
            <a:off x="5219640" y="1773360"/>
            <a:ext cx="2257560" cy="266364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فراهم کردن شرایط ازدواج افراد مجر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Vertical Scroll 6"/>
          <p:cNvSpPr/>
          <p:nvPr/>
        </p:nvSpPr>
        <p:spPr>
          <a:xfrm>
            <a:off x="2903400" y="2565360"/>
            <a:ext cx="2135160" cy="266400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عفت نگه داشتن کسانی که شرایط ازدواج ندارند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Vertical Scroll 7"/>
          <p:cNvSpPr/>
          <p:nvPr/>
        </p:nvSpPr>
        <p:spPr>
          <a:xfrm>
            <a:off x="609480" y="4068720"/>
            <a:ext cx="2113200" cy="2664000"/>
          </a:xfrm>
          <a:prstGeom prst="vertic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وادار به زنا نکردن افراد با عفت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85480"/>
            <a:ext cx="1511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4818240" y="692280"/>
            <a:ext cx="213984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چهارم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Horizontal Scroll 5"/>
          <p:cNvSpPr/>
          <p:nvPr/>
        </p:nvSpPr>
        <p:spPr>
          <a:xfrm>
            <a:off x="826920" y="3284640"/>
            <a:ext cx="5616720" cy="2016000"/>
          </a:xfrm>
          <a:prstGeom prst="horizontalScroll">
            <a:avLst>
              <a:gd name="adj" fmla="val 12500"/>
            </a:avLst>
          </a:prstGeom>
          <a:solidFill>
            <a:srgbClr val="90c226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نزول آیه های روشن با مثال از سرگذشت نیاکان برای عبرت پرهیزکارا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جهت هدایتی سیاق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61440" y="2421000"/>
            <a:ext cx="7162920" cy="2520720"/>
          </a:xfrm>
          <a:prstGeom prst="rect">
            <a:avLst/>
          </a:prstGeom>
          <a:gradFill rotWithShape="0">
            <a:gsLst>
              <a:gs pos="0">
                <a:srgbClr val="e6bebd"/>
              </a:gs>
              <a:gs pos="100000">
                <a:srgbClr val="cb635d"/>
              </a:gs>
            </a:gsLst>
            <a:lin ang="5400000"/>
          </a:gradFill>
          <a:ln cap="rnd" w="12600">
            <a:solidFill>
              <a:srgbClr val="c42f1a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ازدواج</a:t>
            </a: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ea typeface="_PDMS_Saleem_QuranFont"/>
              </a:rPr>
              <a:t> 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بهترین روش برای بیمه شدن از گناه شهوت</a:t>
            </a:r>
            <a:endParaRPr b="0" lang="en-US" sz="5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6:29Z</dcterms:modified>
  <cp:revision>134</cp:revision>
  <dc:subject/>
  <dc:title>آرامش</dc:title>
</cp:coreProperties>
</file>