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13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14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15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65338-D94D-4E94-AA81-BE0A33ECA285}" type="slidenum">
              <a:rPr b="0" lang="fa-I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7BD55-C90C-42B9-9B23-A9FC1319FC1D}" type="slidenum">
              <a:rPr b="0" lang="fa-I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0DA2-9A2F-488A-9843-9E226E8DB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0CB7-5E29-450E-B186-B56384C45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24CD-1024-4489-BCD5-4CE04D7F2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3066-9946-405A-9337-65E6884A5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71522-3188-4A3A-A447-CBF18089B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00170-A926-4745-80D0-FAE17FCD0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95558-F779-4C41-BAFF-A3E469F1F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96301-7F63-49B1-8D76-86B15B5AE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53EEA-68AE-4484-8280-FB51CF759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C77EB-80F6-49D3-8455-2356CE63D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5D802-E98E-45CA-A9C5-A3A4596F5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B096-D974-4D60-82AC-692832F04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0E7BD-796C-4E35-9980-F85112967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35729-656F-4CF8-9994-3D4767623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45562-77BA-4206-AE73-2343BA0F3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8F9D6-4012-4381-8F7D-40F77F948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ED4F3-7525-4779-9952-FCFD15EF3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BB7EFA-89EF-4E8D-93B6-E1027B78C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F89F91-2CFE-44DC-9EC3-060A0B01D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BFD5BA-8281-4DF1-A98E-4AF2B5A0B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95591D-7AFB-40FF-BC1E-EF6516B8C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A1525C-E50E-41FB-A03B-1992C7B4B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36E9-128D-47E6-82D6-4A365E9FD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59BA03-1C3A-489A-BD5F-798C0918D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558975-1C06-427C-8794-7C954B748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73F172-D99E-4422-9AEF-BA32C369D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709760-172C-4995-9CDB-BAF3635AA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23E81B-5804-49F0-B88C-DCE0B7A9A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32B93C-7ECD-4F2B-90FB-AD5426FC0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7A989E-C30E-4017-8D37-56B31E140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C57104-5AF6-4634-9C2F-9A1717534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DA2E9B-15D5-4F42-AA26-D344D3C25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58C8CF-E3E1-4CA2-9402-781295260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E556-5F59-437F-B9F6-9A7C6ED35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964BE6-6FDC-4B52-B2A1-680107794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B67367-630E-41F4-B8BE-D10944F85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6293BC-9956-4B0E-9511-CE75B0CF6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EFA791-D8D2-48DA-8890-D98AF4677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3F20A1-AC4B-4976-81B3-70FFFE264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C0B9D8-72AE-45DB-939D-BAC3195EF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9360BD-924F-4123-A0FF-3D1124C2C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509141-8308-4481-B155-E97DA6FAD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0624F4-C006-46FE-807F-BDF2BBFFF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1D6A-DBB8-4EE6-A366-11811C701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FE80-52B5-4251-B72D-B165072A7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7D9A-CA83-45A8-A6B6-3078ACDEC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86CE-508D-4C48-A955-0501E79C8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66BA-8347-4B6D-B7AB-6300A7642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" name="Straight Connector 6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Freeform 8"/>
            <p:cNvSpPr/>
            <p:nvPr/>
          </p:nvSpPr>
          <p:spPr>
            <a:xfrm>
              <a:off x="6892200" y="360"/>
              <a:ext cx="2269440" cy="6865560"/>
            </a:xfrm>
            <a:prstGeom prst="pie">
              <a:avLst/>
            </a:pr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7205400" y="-7560"/>
              <a:ext cx="1947960" cy="6865560"/>
            </a:xfrm>
            <a:prstGeom prst="pie">
              <a:avLst/>
            </a:pr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6638400" y="3920040"/>
              <a:ext cx="2513520" cy="2937600"/>
            </a:xfrm>
            <a:prstGeom prst="pie">
              <a:avLst/>
            </a:pr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7011000" y="-7560"/>
              <a:ext cx="2142720" cy="6865560"/>
            </a:xfrm>
            <a:prstGeom prst="pie">
              <a:avLst/>
            </a:pr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8296200" y="-7560"/>
              <a:ext cx="857520" cy="6865560"/>
            </a:xfrm>
            <a:prstGeom prst="pie">
              <a:avLst/>
            </a:pr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094600" y="-7920"/>
              <a:ext cx="1066680" cy="6865560"/>
            </a:xfrm>
            <a:prstGeom prst="pie">
              <a:avLst/>
            </a:pr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69040" y="4893480"/>
              <a:ext cx="1094040" cy="1963800"/>
            </a:xfrm>
            <a:prstGeom prst="pie">
              <a:avLst/>
            </a:pr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-7920" y="4013280"/>
              <a:ext cx="457200" cy="2852640"/>
            </a:xfrm>
            <a:prstGeom prst="pie">
              <a:avLst/>
            </a:pr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782E9-6973-46F2-8310-F4843BC009FB}" type="slidenum">
              <a:rPr b="0" lang="fa-IR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17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53" name="Straight Connector 18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19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Freeform 20"/>
            <p:cNvSpPr/>
            <p:nvPr/>
          </p:nvSpPr>
          <p:spPr>
            <a:xfrm>
              <a:off x="6892200" y="360"/>
              <a:ext cx="2269440" cy="6865560"/>
            </a:xfrm>
            <a:prstGeom prst="pie">
              <a:avLst/>
            </a:pr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Freeform 21"/>
            <p:cNvSpPr/>
            <p:nvPr/>
          </p:nvSpPr>
          <p:spPr>
            <a:xfrm>
              <a:off x="7205400" y="-7560"/>
              <a:ext cx="1947960" cy="6865560"/>
            </a:xfrm>
            <a:prstGeom prst="pie">
              <a:avLst/>
            </a:pr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Freeform 22"/>
            <p:cNvSpPr/>
            <p:nvPr/>
          </p:nvSpPr>
          <p:spPr>
            <a:xfrm>
              <a:off x="6638400" y="3920040"/>
              <a:ext cx="2513520" cy="2937600"/>
            </a:xfrm>
            <a:prstGeom prst="pie">
              <a:avLst/>
            </a:pr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Freeform 23"/>
            <p:cNvSpPr/>
            <p:nvPr/>
          </p:nvSpPr>
          <p:spPr>
            <a:xfrm>
              <a:off x="7011000" y="-7560"/>
              <a:ext cx="2142720" cy="6865560"/>
            </a:xfrm>
            <a:prstGeom prst="pie">
              <a:avLst/>
            </a:pr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Freeform 24"/>
            <p:cNvSpPr/>
            <p:nvPr/>
          </p:nvSpPr>
          <p:spPr>
            <a:xfrm>
              <a:off x="8296200" y="-7560"/>
              <a:ext cx="857520" cy="6865560"/>
            </a:xfrm>
            <a:prstGeom prst="pie">
              <a:avLst/>
            </a:pr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Freeform 25"/>
            <p:cNvSpPr/>
            <p:nvPr/>
          </p:nvSpPr>
          <p:spPr>
            <a:xfrm>
              <a:off x="8094600" y="-7920"/>
              <a:ext cx="1066680" cy="6865560"/>
            </a:xfrm>
            <a:prstGeom prst="pie">
              <a:avLst/>
            </a:pr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Freeform 26"/>
            <p:cNvSpPr/>
            <p:nvPr/>
          </p:nvSpPr>
          <p:spPr>
            <a:xfrm>
              <a:off x="8069040" y="4893480"/>
              <a:ext cx="1094040" cy="1963800"/>
            </a:xfrm>
            <a:prstGeom prst="pie">
              <a:avLst/>
            </a:pr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280" cy="5697360"/>
            </a:xfrm>
            <a:prstGeom prst="pie">
              <a:avLst/>
            </a:prstGeom>
            <a:solidFill>
              <a:srgbClr val="eb3d9f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F3505-BC78-4719-ABCD-92B930226BEF}" type="slidenum">
              <a:rPr b="0" lang="fa-IR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05" name="Straight Connector 6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Freeform 8"/>
            <p:cNvSpPr/>
            <p:nvPr/>
          </p:nvSpPr>
          <p:spPr>
            <a:xfrm>
              <a:off x="6892200" y="360"/>
              <a:ext cx="2269440" cy="6865560"/>
            </a:xfrm>
            <a:prstGeom prst="pie">
              <a:avLst/>
            </a:pr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7205400" y="-7560"/>
              <a:ext cx="1947960" cy="6865560"/>
            </a:xfrm>
            <a:prstGeom prst="pie">
              <a:avLst/>
            </a:pr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6638400" y="3920040"/>
              <a:ext cx="2513520" cy="2937600"/>
            </a:xfrm>
            <a:prstGeom prst="pie">
              <a:avLst/>
            </a:pr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7011000" y="-7560"/>
              <a:ext cx="2142720" cy="6865560"/>
            </a:xfrm>
            <a:prstGeom prst="pie">
              <a:avLst/>
            </a:pr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8296200" y="-7560"/>
              <a:ext cx="857520" cy="6865560"/>
            </a:xfrm>
            <a:prstGeom prst="pie">
              <a:avLst/>
            </a:pr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094600" y="-7920"/>
              <a:ext cx="1066680" cy="6865560"/>
            </a:xfrm>
            <a:prstGeom prst="pie">
              <a:avLst/>
            </a:pr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69040" y="4893480"/>
              <a:ext cx="1094040" cy="1963800"/>
            </a:xfrm>
            <a:prstGeom prst="pie">
              <a:avLst/>
            </a:pr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-7920" y="4013280"/>
              <a:ext cx="457200" cy="2852640"/>
            </a:xfrm>
            <a:prstGeom prst="pie">
              <a:avLst/>
            </a:pr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F2C42-AA97-48B5-B691-2F3D40FC391C}" type="slidenum">
              <a:rPr b="0" lang="fa-IR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59" name="Straight Connector 6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Freeform 8"/>
            <p:cNvSpPr/>
            <p:nvPr/>
          </p:nvSpPr>
          <p:spPr>
            <a:xfrm>
              <a:off x="6892200" y="360"/>
              <a:ext cx="2269440" cy="6865560"/>
            </a:xfrm>
            <a:prstGeom prst="pie">
              <a:avLst/>
            </a:pr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7205400" y="-7560"/>
              <a:ext cx="1947960" cy="6865560"/>
            </a:xfrm>
            <a:prstGeom prst="pie">
              <a:avLst/>
            </a:pr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6638400" y="3920040"/>
              <a:ext cx="2513520" cy="2937600"/>
            </a:xfrm>
            <a:prstGeom prst="pie">
              <a:avLst/>
            </a:pr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7011000" y="-7560"/>
              <a:ext cx="2142720" cy="6865560"/>
            </a:xfrm>
            <a:prstGeom prst="pie">
              <a:avLst/>
            </a:pr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8296200" y="-7560"/>
              <a:ext cx="857520" cy="6865560"/>
            </a:xfrm>
            <a:prstGeom prst="pie">
              <a:avLst/>
            </a:pr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094600" y="-7920"/>
              <a:ext cx="1066680" cy="6865560"/>
            </a:xfrm>
            <a:prstGeom prst="pie">
              <a:avLst/>
            </a:pr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69040" y="4893480"/>
              <a:ext cx="1094040" cy="1963800"/>
            </a:xfrm>
            <a:prstGeom prst="pie">
              <a:avLst/>
            </a:pr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-7920" y="4013280"/>
              <a:ext cx="457200" cy="2852640"/>
            </a:xfrm>
            <a:prstGeom prst="pie">
              <a:avLst/>
            </a:pr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CB928-A30D-4033-BFE1-51E54F0FB654}" type="slidenum">
              <a:rPr b="0" lang="fa-IR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349280" y="1844640"/>
            <a:ext cx="56880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600" spc="-1" strike="noStrike">
                <a:solidFill>
                  <a:srgbClr val="002060"/>
                </a:solidFill>
                <a:latin typeface="A Thuluth"/>
                <a:cs typeface="A Thuluth"/>
              </a:rPr>
              <a:t>سبک زندگی قرآنی</a:t>
            </a:r>
            <a:endParaRPr b="0" lang="en-US" sz="9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619280" y="4581360"/>
            <a:ext cx="4570560" cy="13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 Thuluth"/>
                <a:cs typeface="A  Mitra_1 (MRT)"/>
              </a:rPr>
              <a:t>تدبّر در  آیات آخر سوره مبارکه فرقان</a:t>
            </a:r>
            <a:endParaRPr b="0" lang="en-US" sz="31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a-IR" sz="3100" spc="-1" strike="noStrike">
                <a:solidFill>
                  <a:srgbClr val="000000"/>
                </a:solidFill>
                <a:latin typeface="A Thuluth"/>
                <a:cs typeface="A  Mitra_1 (MRT)"/>
              </a:rPr>
              <a:t>ابوذر کارگر</a:t>
            </a:r>
            <a:endParaRPr b="0" lang="en-US" sz="31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68360" y="391680"/>
            <a:ext cx="245592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b0f0"/>
                </a:solidFill>
                <a:latin typeface="_PDMS_Saleem_QuranFont"/>
                <a:cs typeface="_PDMS_Saleem_QuranFont"/>
              </a:rPr>
              <a:t>تفهّم اول</a:t>
            </a:r>
            <a:br>
              <a:rPr sz="4000"/>
            </a:br>
            <a:r>
              <a:rPr b="0" lang="en-US" sz="4000" spc="-1" strike="noStrike">
                <a:solidFill>
                  <a:srgbClr val="00b0f0"/>
                </a:solidFill>
                <a:latin typeface="_PDMS_Saleem_QuranFont"/>
                <a:cs typeface="_PDMS_Saleem_QuranFont"/>
              </a:rPr>
              <a:t>شناخت اجمالی</a:t>
            </a:r>
            <a:endParaRPr b="0" lang="en-US" sz="40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250920" y="1911240"/>
            <a:ext cx="8424720" cy="488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3" name="Round Diagonal Corner Rectangle 2"/>
          <p:cNvSpPr/>
          <p:nvPr/>
        </p:nvSpPr>
        <p:spPr>
          <a:xfrm>
            <a:off x="6156360" y="793800"/>
            <a:ext cx="2016000" cy="914400"/>
          </a:xfrm>
          <a:prstGeom prst="pie">
            <a:avLst/>
          </a:prstGeom>
          <a:solidFill>
            <a:srgbClr val="f496cb"/>
          </a:solidFill>
          <a:ln cap="rnd" w="28440">
            <a:solidFill>
              <a:srgbClr val="b213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fa-IR" sz="1800" spc="-1" strike="noStrike">
                <a:solidFill>
                  <a:srgbClr val="000000"/>
                </a:solidFill>
                <a:latin typeface="Trebuchet MS"/>
              </a:rPr>
              <a:t>سوره </a:t>
            </a:r>
            <a:r>
              <a:rPr b="1" lang="fa-IR" sz="1800" spc="-1" strike="noStrike">
                <a:solidFill>
                  <a:srgbClr val="000000"/>
                </a:solidFill>
                <a:latin typeface="Trebuchet MS"/>
              </a:rPr>
              <a:t>25</a:t>
            </a:r>
            <a:r>
              <a:rPr b="1" lang="fa-IR" sz="1800" spc="-1" strike="noStrike">
                <a:solidFill>
                  <a:srgbClr val="000000"/>
                </a:solidFill>
                <a:latin typeface="Trebuchet MS"/>
              </a:rPr>
              <a:t> قرآن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Round Diagonal Corner Rectangle 4"/>
          <p:cNvSpPr/>
          <p:nvPr/>
        </p:nvSpPr>
        <p:spPr>
          <a:xfrm>
            <a:off x="1874880" y="2825640"/>
            <a:ext cx="2100240" cy="914400"/>
          </a:xfrm>
          <a:prstGeom prst="pie">
            <a:avLst/>
          </a:prstGeom>
          <a:solidFill>
            <a:srgbClr val="f496cb"/>
          </a:solidFill>
          <a:ln cap="rnd" w="38160">
            <a:solidFill>
              <a:srgbClr val="b213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ahoma"/>
              </a:rPr>
              <a:t>   </a:t>
            </a:r>
            <a:r>
              <a:rPr b="1" lang="fa-IR" sz="2000" spc="-1" strike="noStrike">
                <a:solidFill>
                  <a:srgbClr val="404040"/>
                </a:solidFill>
                <a:latin typeface="Tahoma"/>
              </a:rPr>
              <a:t>دارای </a:t>
            </a:r>
            <a:r>
              <a:rPr b="1" lang="fa-IR" sz="2000" spc="-1" strike="noStrike">
                <a:solidFill>
                  <a:srgbClr val="404040"/>
                </a:solidFill>
                <a:latin typeface="Tahoma"/>
              </a:rPr>
              <a:t>77</a:t>
            </a:r>
            <a:r>
              <a:rPr b="1" lang="fa-IR" sz="2000" spc="-1" strike="noStrike">
                <a:solidFill>
                  <a:srgbClr val="404040"/>
                </a:solidFill>
                <a:latin typeface="Tahoma"/>
              </a:rPr>
              <a:t> آیه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Round Diagonal Corner Rectangle 5"/>
          <p:cNvSpPr/>
          <p:nvPr/>
        </p:nvSpPr>
        <p:spPr>
          <a:xfrm>
            <a:off x="119160" y="3855960"/>
            <a:ext cx="1752480" cy="914400"/>
          </a:xfrm>
          <a:prstGeom prst="pie">
            <a:avLst/>
          </a:prstGeom>
          <a:solidFill>
            <a:srgbClr val="f496cb"/>
          </a:solidFill>
          <a:ln cap="rnd" w="38160">
            <a:solidFill>
              <a:srgbClr val="b213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ahoma"/>
              </a:rPr>
              <a:t>مکّی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Round Diagonal Corner Rectangle 6"/>
          <p:cNvSpPr/>
          <p:nvPr/>
        </p:nvSpPr>
        <p:spPr>
          <a:xfrm>
            <a:off x="3995640" y="1795320"/>
            <a:ext cx="2089080" cy="914400"/>
          </a:xfrm>
          <a:prstGeom prst="pie">
            <a:avLst/>
          </a:prstGeom>
          <a:solidFill>
            <a:srgbClr val="f496cb"/>
          </a:solidFill>
          <a:ln cap="rnd" w="38160">
            <a:solidFill>
              <a:srgbClr val="b213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Tahoma"/>
              </a:rPr>
              <a:t>جداکننده بین حق وباطل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7" name="Round Diagonal Corner Rectangle 7"/>
          <p:cNvSpPr/>
          <p:nvPr/>
        </p:nvSpPr>
        <p:spPr>
          <a:xfrm>
            <a:off x="2924280" y="4221000"/>
            <a:ext cx="3951360" cy="1795680"/>
          </a:xfrm>
          <a:prstGeom prst="pie">
            <a:avLst/>
          </a:prstGeom>
          <a:solidFill>
            <a:srgbClr val="f496cb"/>
          </a:solidFill>
          <a:ln cap="rnd" w="38160">
            <a:solidFill>
              <a:srgbClr val="b213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Trebuchet MS"/>
              </a:rPr>
              <a:t>       </a:t>
            </a:r>
            <a:r>
              <a:rPr b="1" lang="en-US" sz="1800" spc="-1" strike="noStrike">
                <a:solidFill>
                  <a:srgbClr val="404040"/>
                </a:solidFill>
                <a:latin typeface="Tahoma"/>
              </a:rPr>
              <a:t>مباحث سوره</a:t>
            </a:r>
            <a:r>
              <a:rPr b="1" lang="en-US" sz="1800" spc="-1" strike="noStrike">
                <a:solidFill>
                  <a:srgbClr val="404040"/>
                </a:solidFill>
                <a:latin typeface="Tahoma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مبداء ومعاد ، نبوت حضرت رسول مبارزه با شرک وبت پرستی  صفات مومنین راستین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>
    <p:split dir="out" orient="ver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94920" y="393480"/>
            <a:ext cx="16556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b0f0"/>
                </a:solidFill>
                <a:latin typeface="_PDMS_Saleem_QuranFont"/>
                <a:cs typeface="_PDMS_Saleem_QuranFont"/>
              </a:rPr>
              <a:t>تفهّم دوم </a:t>
            </a:r>
            <a:br>
              <a:rPr sz="4000"/>
            </a:br>
            <a:r>
              <a:rPr b="0" lang="en-US" sz="4000" spc="-1" strike="noStrike">
                <a:solidFill>
                  <a:srgbClr val="00b0f0"/>
                </a:solidFill>
                <a:latin typeface="_PDMS_Saleem_QuranFont"/>
                <a:cs typeface="_PDMS_Saleem_QuranFont"/>
              </a:rPr>
              <a:t>ساختار یابی</a:t>
            </a:r>
            <a:endParaRPr b="0" lang="en-US" sz="40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98360" y="2131920"/>
            <a:ext cx="8352000" cy="40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       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0" name="Round Single Corner Rectangle 3"/>
          <p:cNvSpPr/>
          <p:nvPr/>
        </p:nvSpPr>
        <p:spPr>
          <a:xfrm>
            <a:off x="658800" y="2079720"/>
            <a:ext cx="6946920" cy="484200"/>
          </a:xfrm>
          <a:prstGeom prst="pie">
            <a:avLst/>
          </a:prstGeom>
          <a:solidFill>
            <a:srgbClr val="f2ac19"/>
          </a:solidFill>
          <a:ln cap="rnd" w="19080">
            <a:solidFill>
              <a:srgbClr val="b27d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    </a:t>
            </a:r>
            <a:r>
              <a:rPr b="0" lang="fa-IR" sz="2800" spc="-1" strike="noStrike">
                <a:solidFill>
                  <a:srgbClr val="ffffff"/>
                </a:solidFill>
                <a:latin typeface="Trebuchet MS"/>
              </a:rPr>
              <a:t>61</a:t>
            </a:r>
            <a:r>
              <a:rPr b="1" lang="fa-IR" sz="28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rebuchet MS"/>
              </a:rPr>
              <a:t>تا</a:t>
            </a:r>
            <a:r>
              <a:rPr b="1" lang="fa-IR" sz="28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fa-IR" sz="2800" spc="-1" strike="noStrike">
                <a:solidFill>
                  <a:srgbClr val="ffffff"/>
                </a:solidFill>
                <a:latin typeface="Trebuchet MS"/>
              </a:rPr>
              <a:t>77</a:t>
            </a: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Round Single Corner Rectangle 4"/>
          <p:cNvSpPr/>
          <p:nvPr/>
        </p:nvSpPr>
        <p:spPr>
          <a:xfrm>
            <a:off x="6262560" y="3532320"/>
            <a:ext cx="1511280" cy="431640"/>
          </a:xfrm>
          <a:prstGeom prst="pie">
            <a:avLst/>
          </a:prstGeom>
          <a:solidFill>
            <a:srgbClr val="f2ac19"/>
          </a:solidFill>
          <a:ln cap="rnd" w="19080">
            <a:solidFill>
              <a:srgbClr val="b27d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fa-IR" sz="1800" spc="-1" strike="noStrike">
                <a:solidFill>
                  <a:srgbClr val="ffffff"/>
                </a:solidFill>
                <a:latin typeface="Trebuchet MS"/>
              </a:rPr>
              <a:t>61</a:t>
            </a: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   و </a:t>
            </a:r>
            <a:r>
              <a:rPr b="0" lang="fa-IR" sz="1800" spc="-1" strike="noStrike">
                <a:solidFill>
                  <a:srgbClr val="ffffff"/>
                </a:solidFill>
                <a:latin typeface="Trebuchet MS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2" name="Round Single Corner Rectangle 5"/>
          <p:cNvSpPr/>
          <p:nvPr/>
        </p:nvSpPr>
        <p:spPr>
          <a:xfrm>
            <a:off x="3611520" y="3517920"/>
            <a:ext cx="1346400" cy="431640"/>
          </a:xfrm>
          <a:prstGeom prst="pie">
            <a:avLst/>
          </a:prstGeom>
          <a:solidFill>
            <a:srgbClr val="f2ac19"/>
          </a:solidFill>
          <a:ln cap="rnd" w="19080">
            <a:solidFill>
              <a:srgbClr val="b27d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fa-IR" sz="1800" spc="-1" strike="noStrike">
                <a:solidFill>
                  <a:srgbClr val="ffffff"/>
                </a:solidFill>
                <a:latin typeface="Trebuchet MS"/>
              </a:rPr>
              <a:t>63</a:t>
            </a:r>
            <a:r>
              <a:rPr b="0" lang="fa-IR" sz="18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 تا </a:t>
            </a:r>
            <a:r>
              <a:rPr b="0" lang="fa-IR" sz="1800" spc="-1" strike="noStrike">
                <a:solidFill>
                  <a:srgbClr val="ffffff"/>
                </a:solidFill>
                <a:latin typeface="Trebuchet MS"/>
              </a:rPr>
              <a:t>76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3" name="Round Single Corner Rectangle 6"/>
          <p:cNvSpPr/>
          <p:nvPr/>
        </p:nvSpPr>
        <p:spPr>
          <a:xfrm>
            <a:off x="797040" y="3514680"/>
            <a:ext cx="1377720" cy="434880"/>
          </a:xfrm>
          <a:prstGeom prst="pie">
            <a:avLst/>
          </a:prstGeom>
          <a:solidFill>
            <a:srgbClr val="f2ac19"/>
          </a:solidFill>
          <a:ln cap="rnd" w="19080">
            <a:solidFill>
              <a:srgbClr val="b27d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Trebuchet MS"/>
              </a:rPr>
              <a:t>77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Down Arrow 7"/>
          <p:cNvSpPr/>
          <p:nvPr/>
        </p:nvSpPr>
        <p:spPr>
          <a:xfrm>
            <a:off x="6777000" y="2908440"/>
            <a:ext cx="484200" cy="360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496cb"/>
          </a:solidFill>
          <a:ln cap="rnd" w="19080">
            <a:solidFill>
              <a:srgbClr val="b36d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5" name="Down Arrow 8"/>
          <p:cNvSpPr/>
          <p:nvPr/>
        </p:nvSpPr>
        <p:spPr>
          <a:xfrm>
            <a:off x="4040280" y="2873520"/>
            <a:ext cx="484200" cy="330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496cb"/>
          </a:solidFill>
          <a:ln cap="rnd" w="19080">
            <a:solidFill>
              <a:srgbClr val="b36d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6" name="Down Arrow 9"/>
          <p:cNvSpPr/>
          <p:nvPr/>
        </p:nvSpPr>
        <p:spPr>
          <a:xfrm>
            <a:off x="1244520" y="2913120"/>
            <a:ext cx="484200" cy="360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496cb"/>
          </a:solidFill>
          <a:ln cap="rnd" w="19080">
            <a:solidFill>
              <a:srgbClr val="b36d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7" name="Rounded Rectangle 10"/>
          <p:cNvSpPr/>
          <p:nvPr/>
        </p:nvSpPr>
        <p:spPr>
          <a:xfrm>
            <a:off x="6013440" y="4802040"/>
            <a:ext cx="2276640" cy="1611360"/>
          </a:xfrm>
          <a:prstGeom prst="roundRect">
            <a:avLst>
              <a:gd name="adj" fmla="val 16667"/>
            </a:avLst>
          </a:prstGeom>
          <a:solidFill>
            <a:srgbClr val="f2ac19"/>
          </a:solidFill>
          <a:ln cap="rnd" w="19080">
            <a:solidFill>
              <a:srgbClr val="b27d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rebuchet MS"/>
              </a:rPr>
              <a:t>حمد وسپاس خدای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خالق آسمان ، ماه وخورشید</a:t>
            </a:r>
            <a:r>
              <a:rPr b="0" lang="en-US" sz="1700" spc="-1" strike="noStrike">
                <a:solidFill>
                  <a:srgbClr val="000000"/>
                </a:solidFill>
                <a:latin typeface="Trebuchet MS"/>
              </a:rPr>
              <a:t> منظم کننده شب وروز 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8" name="Rounded Rectangle 11"/>
          <p:cNvSpPr/>
          <p:nvPr/>
        </p:nvSpPr>
        <p:spPr>
          <a:xfrm>
            <a:off x="3147840" y="4802040"/>
            <a:ext cx="2268720" cy="1611360"/>
          </a:xfrm>
          <a:prstGeom prst="roundRect">
            <a:avLst>
              <a:gd name="adj" fmla="val 16667"/>
            </a:avLst>
          </a:prstGeom>
          <a:solidFill>
            <a:srgbClr val="f2ac19"/>
          </a:solidFill>
          <a:ln cap="rnd" w="19080">
            <a:solidFill>
              <a:srgbClr val="b27d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rebuchet MS"/>
              </a:rPr>
              <a:t>بیان صفات عباد الرّحمن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Rounded Rectangle 12"/>
          <p:cNvSpPr/>
          <p:nvPr/>
        </p:nvSpPr>
        <p:spPr>
          <a:xfrm>
            <a:off x="423720" y="4802040"/>
            <a:ext cx="2125800" cy="1611360"/>
          </a:xfrm>
          <a:prstGeom prst="roundRect">
            <a:avLst>
              <a:gd name="adj" fmla="val 16667"/>
            </a:avLst>
          </a:prstGeom>
          <a:solidFill>
            <a:srgbClr val="f2ac19"/>
          </a:solidFill>
          <a:ln cap="rnd" w="19080">
            <a:solidFill>
              <a:srgbClr val="b27d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rebuchet MS"/>
              </a:rPr>
              <a:t>عاقبت تکذیب کنندگان آیات حق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0" name="Down Arrow 13"/>
          <p:cNvSpPr/>
          <p:nvPr/>
        </p:nvSpPr>
        <p:spPr>
          <a:xfrm>
            <a:off x="6777000" y="4154400"/>
            <a:ext cx="484200" cy="514440"/>
          </a:xfrm>
          <a:prstGeom prst="downArrow">
            <a:avLst>
              <a:gd name="adj1" fmla="val 50000"/>
              <a:gd name="adj2" fmla="val 50142"/>
            </a:avLst>
          </a:prstGeom>
          <a:solidFill>
            <a:srgbClr val="f496cb"/>
          </a:solidFill>
          <a:ln cap="rnd" w="19080">
            <a:solidFill>
              <a:srgbClr val="b36d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1" name="Down Arrow 14"/>
          <p:cNvSpPr/>
          <p:nvPr/>
        </p:nvSpPr>
        <p:spPr>
          <a:xfrm>
            <a:off x="4040280" y="4167360"/>
            <a:ext cx="484200" cy="522000"/>
          </a:xfrm>
          <a:prstGeom prst="downArrow">
            <a:avLst>
              <a:gd name="adj1" fmla="val 50000"/>
              <a:gd name="adj2" fmla="val 49975"/>
            </a:avLst>
          </a:prstGeom>
          <a:solidFill>
            <a:srgbClr val="f496cb"/>
          </a:solidFill>
          <a:ln cap="rnd" w="19080">
            <a:solidFill>
              <a:srgbClr val="b36d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Down Arrow 15"/>
          <p:cNvSpPr/>
          <p:nvPr/>
        </p:nvSpPr>
        <p:spPr>
          <a:xfrm>
            <a:off x="1244520" y="4167360"/>
            <a:ext cx="484200" cy="512640"/>
          </a:xfrm>
          <a:prstGeom prst="downArrow">
            <a:avLst>
              <a:gd name="adj1" fmla="val 50000"/>
              <a:gd name="adj2" fmla="val 50064"/>
            </a:avLst>
          </a:prstGeom>
          <a:solidFill>
            <a:srgbClr val="f496cb"/>
          </a:solidFill>
          <a:ln cap="rnd" w="19080">
            <a:solidFill>
              <a:srgbClr val="b36d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15840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b0f0"/>
                </a:solidFill>
                <a:latin typeface="_PDMS_Saleem_QuranFont"/>
                <a:cs typeface="_PDMS_Saleem_QuranFont"/>
              </a:rPr>
              <a:t>تفهّم سوم</a:t>
            </a:r>
            <a:br>
              <a:rPr sz="4000"/>
            </a:br>
            <a:r>
              <a:rPr b="0" lang="en-US" sz="4000" spc="-1" strike="noStrike">
                <a:solidFill>
                  <a:srgbClr val="00b0f0"/>
                </a:solidFill>
                <a:latin typeface="_PDMS_Saleem_QuranFont"/>
                <a:cs typeface="_PDMS_Saleem_QuranFont"/>
              </a:rPr>
              <a:t>جهت یابی</a:t>
            </a:r>
            <a:endParaRPr b="0" lang="en-US" sz="40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24000" y="2205000"/>
            <a:ext cx="7200720" cy="390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a-IR" sz="4000" spc="-1" strike="noStrike">
                <a:solidFill>
                  <a:srgbClr val="00b050"/>
                </a:solidFill>
                <a:latin typeface="Trebuchet MS"/>
              </a:rPr>
              <a:t> 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5" name="Rectangle 5"/>
          <p:cNvSpPr/>
          <p:nvPr/>
        </p:nvSpPr>
        <p:spPr>
          <a:xfrm>
            <a:off x="684360" y="2828880"/>
            <a:ext cx="6400800" cy="3385800"/>
          </a:xfrm>
          <a:prstGeom prst="rect">
            <a:avLst/>
          </a:prstGeom>
          <a:solidFill>
            <a:srgbClr val="f2ac19"/>
          </a:solidFill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_PDMS_Saleem_QuranFont"/>
                <a:cs typeface="_PDMS_Saleem_QuranFont"/>
              </a:rPr>
              <a:t>تبارک</a:t>
            </a:r>
            <a:r>
              <a:rPr b="0" lang="ar-AE" sz="3600" spc="-1" strike="noStrike">
                <a:solidFill>
                  <a:srgbClr val="000000"/>
                </a:solidFill>
                <a:latin typeface="_PDMS_Saleem_QuranFont"/>
                <a:cs typeface="_PDMS_Saleem_QuranFont"/>
              </a:rPr>
              <a:t>َ الَّذِي جَعَلَ فِي السَّمَاءِ بُرُوجًا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600" spc="-1" strike="noStrike">
                <a:solidFill>
                  <a:srgbClr val="000000"/>
                </a:solidFill>
                <a:latin typeface="_PDMS_Saleem_QuranFont"/>
                <a:cs typeface="_PDMS_Saleem_QuranFont"/>
              </a:rPr>
              <a:t>وَجَعَلَ فِيهَا سِرَاجًا وَقَمَرًا مُنِيرًا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600" spc="-1" strike="noStrike">
                <a:solidFill>
                  <a:srgbClr val="000000"/>
                </a:solidFill>
                <a:latin typeface="_PDMS_Saleem_QuranFont"/>
                <a:cs typeface="_PDMS_Saleem_QuranFont"/>
              </a:rPr>
              <a:t>وَهُوَ الَّذِي جَعَلَ اللَّيْلَ وَالنَّهَارَ خِلْفَةً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600" spc="-1" strike="noStrike">
                <a:solidFill>
                  <a:srgbClr val="000000"/>
                </a:solidFill>
                <a:latin typeface="_PDMS_Saleem_QuranFont"/>
                <a:ea typeface="_PDMS_Saleem_QuranFont"/>
              </a:rPr>
              <a:t> لِمَنْ أَرَادَ أَنْ يَذَّكَّرَ أَوْ أَرَادَ شُكُورًا </a:t>
            </a:r>
            <a:r>
              <a:rPr b="0" lang="ar-AE" sz="3600" spc="-1" strike="noStrike">
                <a:solidFill>
                  <a:srgbClr val="000000"/>
                </a:solidFill>
                <a:latin typeface="_PDMS_Saleem_QuranFont"/>
                <a:cs typeface="_PDMS_Saleem_QuranFont"/>
              </a:rPr>
              <a:t>٦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6" name="Rectangle 4"/>
          <p:cNvSpPr/>
          <p:nvPr/>
        </p:nvSpPr>
        <p:spPr>
          <a:xfrm>
            <a:off x="4643280" y="463680"/>
            <a:ext cx="2152800" cy="914400"/>
          </a:xfrm>
          <a:prstGeom prst="rect">
            <a:avLst/>
          </a:prstGeom>
          <a:solidFill>
            <a:srgbClr val="ffffff"/>
          </a:solidFill>
          <a:ln cap="rnd" w="57240">
            <a:solidFill>
              <a:srgbClr val="f496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b0f0"/>
                </a:solidFill>
                <a:latin typeface="Trebuchet MS"/>
                <a:cs typeface="A  Mitra_5 (MRT)"/>
              </a:rPr>
              <a:t>دسته او</a:t>
            </a:r>
            <a:r>
              <a:rPr b="1" lang="en-US" sz="3200" spc="-1" strike="noStrike">
                <a:solidFill>
                  <a:srgbClr val="00b0f0"/>
                </a:solidFill>
                <a:latin typeface="Trebuchet MS"/>
                <a:cs typeface="A  Mitra_5 (MRT)"/>
              </a:rPr>
              <a:t>ّ</a:t>
            </a:r>
            <a:r>
              <a:rPr b="1" lang="ar-AE" sz="3200" spc="-1" strike="noStrike">
                <a:solidFill>
                  <a:srgbClr val="00b0f0"/>
                </a:solidFill>
                <a:latin typeface="Trebuchet MS"/>
                <a:cs typeface="A  Mitra_5 (MRT)"/>
              </a:rPr>
              <a:t>ل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>
    <p:circl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1" dur="20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151272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b0f0"/>
                </a:solidFill>
                <a:latin typeface="_PDMS_Saleem_QuranFont"/>
                <a:cs typeface="_PDMS_Saleem_QuranFont"/>
              </a:rPr>
              <a:t>تفهّم سوم</a:t>
            </a:r>
            <a:br>
              <a:rPr sz="4000"/>
            </a:br>
            <a:r>
              <a:rPr b="0" lang="en-US" sz="4000" spc="-1" strike="noStrike">
                <a:solidFill>
                  <a:srgbClr val="00b0f0"/>
                </a:solidFill>
                <a:latin typeface="_PDMS_Saleem_QuranFont"/>
                <a:cs typeface="_PDMS_Saleem_QuranFont"/>
              </a:rPr>
              <a:t>جهت یابی</a:t>
            </a:r>
            <a:endParaRPr b="0" lang="en-US" sz="40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609120" y="1916280"/>
            <a:ext cx="792324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9" name="Flowchart: Punched Tape 6"/>
          <p:cNvSpPr/>
          <p:nvPr/>
        </p:nvSpPr>
        <p:spPr>
          <a:xfrm>
            <a:off x="4788000" y="3413160"/>
            <a:ext cx="2557440" cy="804960"/>
          </a:xfrm>
          <a:prstGeom prst="flowChartPunchedTape">
            <a:avLst/>
          </a:prstGeom>
          <a:solidFill>
            <a:srgbClr val="f2ac19"/>
          </a:solidFill>
          <a:ln cap="rnd" w="19080">
            <a:solidFill>
              <a:srgbClr val="b27d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_PDMS_Saleem_QuranFont"/>
                <a:cs typeface="A  Mitra_1 (MRT)"/>
              </a:rPr>
              <a:t>تواضع وفروتنی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0" name="Flowchart: Punched Tape 7"/>
          <p:cNvSpPr/>
          <p:nvPr/>
        </p:nvSpPr>
        <p:spPr>
          <a:xfrm>
            <a:off x="4788000" y="4322880"/>
            <a:ext cx="2579760" cy="1008000"/>
          </a:xfrm>
          <a:prstGeom prst="flowChartPunchedTape">
            <a:avLst/>
          </a:prstGeom>
          <a:solidFill>
            <a:srgbClr val="f2ac19"/>
          </a:solidFill>
          <a:ln cap="rnd" w="19080">
            <a:solidFill>
              <a:srgbClr val="b27d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_PDMS_Saleem_QuranFont"/>
                <a:cs typeface="A  Mitra_1 (MRT)"/>
              </a:rPr>
              <a:t>برخورد با ملایت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_PDMS_Saleem_QuranFont"/>
                <a:ea typeface="A  Mitra_1 (MRT)"/>
              </a:rPr>
              <a:t> با جاهلان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Flowchart: Punched Tape 8"/>
          <p:cNvSpPr/>
          <p:nvPr/>
        </p:nvSpPr>
        <p:spPr>
          <a:xfrm>
            <a:off x="4788000" y="5435640"/>
            <a:ext cx="2587680" cy="804960"/>
          </a:xfrm>
          <a:prstGeom prst="flowChartPunchedTape">
            <a:avLst/>
          </a:prstGeom>
          <a:solidFill>
            <a:srgbClr val="f2ac19"/>
          </a:solidFill>
          <a:ln cap="rnd" w="19080">
            <a:solidFill>
              <a:srgbClr val="b27d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_PDMS_Saleem_QuranFont"/>
                <a:cs typeface="A  Mitra_1 (MRT)"/>
              </a:rPr>
              <a:t>سجده ونماز شب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2" name="Flowchart: Punched Tape 9"/>
          <p:cNvSpPr/>
          <p:nvPr/>
        </p:nvSpPr>
        <p:spPr>
          <a:xfrm>
            <a:off x="755640" y="3414600"/>
            <a:ext cx="2448000" cy="804960"/>
          </a:xfrm>
          <a:prstGeom prst="flowChartPunchedTape">
            <a:avLst/>
          </a:prstGeom>
          <a:solidFill>
            <a:srgbClr val="f2ac19"/>
          </a:solidFill>
          <a:ln cap="rnd" w="19080">
            <a:solidFill>
              <a:srgbClr val="b27d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_PDMS_Saleem_QuranFont"/>
                <a:cs typeface="A  Mitra_1 (MRT)"/>
              </a:rPr>
              <a:t>عدم شهادت به ناحق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3" name="Flowchart: Punched Tape 10"/>
          <p:cNvSpPr/>
          <p:nvPr/>
        </p:nvSpPr>
        <p:spPr>
          <a:xfrm>
            <a:off x="755640" y="4513320"/>
            <a:ext cx="2448000" cy="804960"/>
          </a:xfrm>
          <a:prstGeom prst="flowChartPunchedTape">
            <a:avLst/>
          </a:prstGeom>
          <a:solidFill>
            <a:srgbClr val="f2ac19"/>
          </a:solidFill>
          <a:ln cap="rnd" w="19080">
            <a:solidFill>
              <a:srgbClr val="b27d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_PDMS_Saleem_QuranFont"/>
                <a:cs typeface="A  Mitra_1 (MRT)"/>
              </a:rPr>
              <a:t>عدم شرک وقتل وزنا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Flowchart: Punched Tape 11"/>
          <p:cNvSpPr/>
          <p:nvPr/>
        </p:nvSpPr>
        <p:spPr>
          <a:xfrm>
            <a:off x="755640" y="5522760"/>
            <a:ext cx="2448000" cy="804960"/>
          </a:xfrm>
          <a:prstGeom prst="flowChartPunchedTape">
            <a:avLst/>
          </a:prstGeom>
          <a:solidFill>
            <a:srgbClr val="f2ac19"/>
          </a:solidFill>
          <a:ln cap="rnd" w="19080">
            <a:solidFill>
              <a:srgbClr val="b27d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_PDMS_Saleem_QuranFont"/>
                <a:cs typeface="A  Mitra_1 (MRT)"/>
              </a:rPr>
              <a:t>توبه کردن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5" name="Rounded Rectangle 14"/>
          <p:cNvSpPr/>
          <p:nvPr/>
        </p:nvSpPr>
        <p:spPr>
          <a:xfrm>
            <a:off x="2889360" y="2062080"/>
            <a:ext cx="2266920" cy="914400"/>
          </a:xfrm>
          <a:prstGeom prst="roundRect">
            <a:avLst>
              <a:gd name="adj" fmla="val 16667"/>
            </a:avLst>
          </a:prstGeom>
          <a:solidFill>
            <a:srgbClr val="f2ac19"/>
          </a:solidFill>
          <a:ln cap="rnd" w="19080">
            <a:solidFill>
              <a:srgbClr val="b27d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800" spc="-1" strike="noStrike">
                <a:solidFill>
                  <a:srgbClr val="ffffff"/>
                </a:solidFill>
                <a:latin typeface="Trebuchet MS"/>
              </a:rPr>
              <a:t>صفات عباد الر</a:t>
            </a: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ّ</a:t>
            </a:r>
            <a:r>
              <a:rPr b="1" lang="ar-AE" sz="1800" spc="-1" strike="noStrike">
                <a:solidFill>
                  <a:srgbClr val="ffffff"/>
                </a:solidFill>
                <a:latin typeface="Trebuchet MS"/>
              </a:rPr>
              <a:t>حمن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6" name="Rectangle 4"/>
          <p:cNvSpPr/>
          <p:nvPr/>
        </p:nvSpPr>
        <p:spPr>
          <a:xfrm>
            <a:off x="4788000" y="420840"/>
            <a:ext cx="2041560" cy="914400"/>
          </a:xfrm>
          <a:prstGeom prst="rect">
            <a:avLst/>
          </a:prstGeom>
          <a:solidFill>
            <a:srgbClr val="ffffff"/>
          </a:solidFill>
          <a:ln cap="rnd" w="57240">
            <a:solidFill>
              <a:srgbClr val="f496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b0f0"/>
                </a:solidFill>
                <a:latin typeface="Trebuchet MS"/>
                <a:cs typeface="A  Mitra_5 (MRT)"/>
              </a:rPr>
              <a:t>دسته دوم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7308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b0f0"/>
              </a:solidFill>
              <a:latin typeface="_PDMS_Saleem_QuranFont"/>
              <a:ea typeface="_PDMS_Saleem_QuranFont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214200" y="785880"/>
            <a:ext cx="8501040" cy="5276880"/>
          </a:xfrm>
          <a:prstGeom prst="rect">
            <a:avLst/>
          </a:prstGeom>
          <a:ln w="0">
            <a:noFill/>
          </a:ln>
        </p:spPr>
      </p:pic>
      <p:sp>
        <p:nvSpPr>
          <p:cNvPr id="259" name="Flowchart: Punched Tape 3"/>
          <p:cNvSpPr/>
          <p:nvPr/>
        </p:nvSpPr>
        <p:spPr>
          <a:xfrm>
            <a:off x="4564080" y="1467000"/>
            <a:ext cx="2663640" cy="804600"/>
          </a:xfrm>
          <a:prstGeom prst="flowChartPunchedTape">
            <a:avLst/>
          </a:prstGeom>
          <a:solidFill>
            <a:srgbClr val="f2ac19"/>
          </a:solidFill>
          <a:ln cap="rnd" w="19080">
            <a:solidFill>
              <a:srgbClr val="b27d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PDMS_Saleem_QuranFont"/>
                <a:cs typeface="A  Mitra_2 (MRT)"/>
              </a:rPr>
              <a:t>توحید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0" name="Flowchart: Punched Tape 4"/>
          <p:cNvSpPr/>
          <p:nvPr/>
        </p:nvSpPr>
        <p:spPr>
          <a:xfrm>
            <a:off x="662040" y="4376880"/>
            <a:ext cx="2757600" cy="1091880"/>
          </a:xfrm>
          <a:prstGeom prst="flowChartPunchedTape">
            <a:avLst/>
          </a:prstGeom>
          <a:solidFill>
            <a:srgbClr val="f2ac19"/>
          </a:solidFill>
          <a:ln cap="rnd" w="19080">
            <a:solidFill>
              <a:srgbClr val="b27d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_PDMS_Saleem_QuranFont"/>
                <a:cs typeface="A  Mitra_2 (MRT)"/>
              </a:rPr>
              <a:t>عدم بخل واسراف در انفاق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1" name="Flowchart: Punched Tape 5"/>
          <p:cNvSpPr/>
          <p:nvPr/>
        </p:nvSpPr>
        <p:spPr>
          <a:xfrm>
            <a:off x="4572000" y="4376880"/>
            <a:ext cx="2664000" cy="949320"/>
          </a:xfrm>
          <a:prstGeom prst="flowChartPunchedTape">
            <a:avLst/>
          </a:prstGeom>
          <a:solidFill>
            <a:srgbClr val="f2ac19"/>
          </a:solidFill>
          <a:ln cap="rnd" w="19080">
            <a:solidFill>
              <a:srgbClr val="b27d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_PDMS_Saleem_QuranFont"/>
                <a:cs typeface="A  Mitra_2 (MRT)"/>
              </a:rPr>
              <a:t>عدم قبول کردن کورکورانه حتی حرف حق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2" name="Flowchart: Punched Tape 6"/>
          <p:cNvSpPr/>
          <p:nvPr/>
        </p:nvSpPr>
        <p:spPr>
          <a:xfrm>
            <a:off x="4786200" y="2857680"/>
            <a:ext cx="2449800" cy="1083960"/>
          </a:xfrm>
          <a:prstGeom prst="flowChartPunchedTape">
            <a:avLst/>
          </a:prstGeom>
          <a:solidFill>
            <a:srgbClr val="f2ac19"/>
          </a:solidFill>
          <a:ln cap="rnd" w="19080">
            <a:solidFill>
              <a:srgbClr val="b27d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_PDMS_Saleem_QuranFont"/>
                <a:cs typeface="A  Mitra_2 (MRT)"/>
              </a:rPr>
              <a:t>درخواست روشنی چشم از طریق همسر وفرزندان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3" name="Flowchart: Punched Tape 7"/>
          <p:cNvSpPr/>
          <p:nvPr/>
        </p:nvSpPr>
        <p:spPr>
          <a:xfrm>
            <a:off x="571680" y="2590920"/>
            <a:ext cx="2847960" cy="1266840"/>
          </a:xfrm>
          <a:prstGeom prst="flowChartPunchedTape">
            <a:avLst/>
          </a:prstGeom>
          <a:solidFill>
            <a:srgbClr val="f2ac19"/>
          </a:solidFill>
          <a:ln cap="rnd" w="19080">
            <a:solidFill>
              <a:srgbClr val="b27d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_PDMS_Saleem_QuranFont"/>
                <a:cs typeface="A  Mitra_2 (MRT)"/>
              </a:rPr>
              <a:t>دعا برای پرهیزکار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_PDMS_Saleem_QuranFont"/>
                <a:cs typeface="A  Mitra_2 (MRT)"/>
              </a:rPr>
              <a:t>وپیشوای پرهیزکاران شدن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4" name="Flowchart: Punched Tape 8"/>
          <p:cNvSpPr/>
          <p:nvPr/>
        </p:nvSpPr>
        <p:spPr>
          <a:xfrm>
            <a:off x="785880" y="1571760"/>
            <a:ext cx="2633760" cy="699840"/>
          </a:xfrm>
          <a:prstGeom prst="flowChartPunchedTape">
            <a:avLst/>
          </a:prstGeom>
          <a:solidFill>
            <a:srgbClr val="f2ac19"/>
          </a:solidFill>
          <a:ln cap="rnd" w="19080">
            <a:solidFill>
              <a:srgbClr val="b27d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_PDMS_Saleem_QuranFont"/>
                <a:cs typeface="A  Mitra_2 (MRT)"/>
              </a:rPr>
              <a:t>درخواست دوری از جهنم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15872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b0f0"/>
                </a:solidFill>
                <a:latin typeface="_PDMS_Saleem_QuranFont"/>
                <a:cs typeface="_PDMS_Saleem_QuranFont"/>
              </a:rPr>
              <a:t>تفهّم سوم</a:t>
            </a:r>
            <a:br>
              <a:rPr sz="4000"/>
            </a:br>
            <a:r>
              <a:rPr b="1" lang="en-US" sz="4000" spc="-1" strike="noStrike">
                <a:solidFill>
                  <a:srgbClr val="00b0f0"/>
                </a:solidFill>
                <a:latin typeface="_PDMS_Saleem_QuranFont"/>
                <a:cs typeface="_PDMS_Saleem_QuranFont"/>
              </a:rPr>
              <a:t>جهت یابی</a:t>
            </a:r>
            <a:endParaRPr b="0" lang="en-US" sz="40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5280" y="2160720"/>
            <a:ext cx="6913440" cy="3355920"/>
          </a:xfrm>
          <a:prstGeom prst="rect">
            <a:avLst/>
          </a:prstGeom>
          <a:solidFill>
            <a:srgbClr val="f2ac19"/>
          </a:solidFill>
          <a:ln cap="rnd" w="19080">
            <a:solidFill>
              <a:srgbClr val="b27d0f"/>
            </a:solidFill>
            <a:miter/>
          </a:ln>
        </p:spPr>
        <p:txBody>
          <a:bodyPr anchor="t">
            <a:normAutofit fontScale="91000"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AE" sz="3000" spc="-1" strike="noStrike">
                <a:solidFill>
                  <a:srgbClr val="000000"/>
                </a:solidFill>
                <a:latin typeface="_PDMS_Saleem_QuranFont"/>
                <a:cs typeface="A  Mitra_2 (MRT)"/>
              </a:rPr>
              <a:t>قُلْ مَا يَعْبَأُ بِكُمْ رَبِّي لَوْلَا دُعَاؤُكُمْ فَقَدْ كَذَّبْتُمْ</a:t>
            </a:r>
            <a:r>
              <a:rPr b="1" lang="ar-AE" sz="3000" spc="-1" strike="noStrike">
                <a:solidFill>
                  <a:srgbClr val="000000"/>
                </a:solidFill>
                <a:latin typeface="_PDMS_Saleem_QuranFont"/>
                <a:ea typeface="A  Mitra_2 (MRT)"/>
              </a:rPr>
              <a:t> 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AE" sz="3000" spc="-1" strike="noStrike">
                <a:solidFill>
                  <a:srgbClr val="000000"/>
                </a:solidFill>
                <a:latin typeface="_PDMS_Saleem_QuranFont"/>
                <a:cs typeface="A  Mitra_2 (MRT)"/>
              </a:rPr>
              <a:t>فَسَوْفَ يَكُونُ لِزَامًا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AE" sz="3000" spc="-1" strike="noStrike">
                <a:solidFill>
                  <a:srgbClr val="000000"/>
                </a:solidFill>
                <a:latin typeface="_PDMS_Saleem_QuranFont"/>
                <a:ea typeface="A  Mitra_2 (MRT)"/>
              </a:rPr>
              <a:t> 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_PDMS_Saleem_QuranFont"/>
                <a:cs typeface="A  Mitra_2 (MRT)"/>
              </a:rPr>
              <a:t>بگو اگر دعا وعبادت شما نباشد پروردگار من اعتنایی به شما ندارد شما که تکذیب کرده اید به زودی نتیجه اش را خواهید دید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7" name="Rectangle 4"/>
          <p:cNvSpPr/>
          <p:nvPr/>
        </p:nvSpPr>
        <p:spPr>
          <a:xfrm>
            <a:off x="4932360" y="463680"/>
            <a:ext cx="1849320" cy="914400"/>
          </a:xfrm>
          <a:prstGeom prst="rect">
            <a:avLst/>
          </a:prstGeom>
          <a:solidFill>
            <a:srgbClr val="ffffff"/>
          </a:solidFill>
          <a:ln cap="rnd" w="57240">
            <a:solidFill>
              <a:srgbClr val="f496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b0f0"/>
                </a:solidFill>
                <a:latin typeface="Trebuchet MS"/>
                <a:cs typeface="A  Mitra_5 (MRT)"/>
              </a:rPr>
              <a:t>دسته سوم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437840" y="692280"/>
            <a:ext cx="4689720" cy="94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_PDMS_Saleem_QuranFont"/>
                <a:cs typeface="_PDMS_Saleem_QuranFont"/>
              </a:rPr>
              <a:t>جهت هدایتی سیاق</a:t>
            </a:r>
            <a:endParaRPr b="0" lang="en-US" sz="60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61800" y="2420640"/>
            <a:ext cx="6842160" cy="1989000"/>
          </a:xfrm>
          <a:prstGeom prst="rect">
            <a:avLst/>
          </a:prstGeom>
          <a:gradFill rotWithShape="0">
            <a:gsLst>
              <a:gs pos="0">
                <a:srgbClr val="f3b03f"/>
              </a:gs>
              <a:gs pos="100000">
                <a:srgbClr val="e19e13"/>
              </a:gs>
            </a:gsLst>
            <a:lin ang="5400000"/>
          </a:gradFill>
          <a:ln cap="rnd" w="12600">
            <a:solidFill>
              <a:srgbClr val="f2ac19"/>
            </a:solidFill>
            <a:miter/>
          </a:ln>
          <a:effectLst>
            <a:outerShdw dist="25560" dir="5400000" blurRad="0" rotWithShape="0">
              <a:srgbClr val="000000">
                <a:alpha val="35000"/>
              </a:srgbClr>
            </a:outerShdw>
          </a:effectLst>
        </p:spPr>
        <p:txBody>
          <a:bodyPr anchor="t">
            <a:normAutofit fontScale="70000"/>
          </a:bodyPr>
          <a:p>
            <a:pPr marL="240120" indent="-240120">
              <a:lnSpc>
                <a:spcPct val="9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240120" indent="-2401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_PDMS_Saleem_QuranFont"/>
                <a:cs typeface="_PDMS_Saleem_QuranFont"/>
              </a:rPr>
              <a:t>به سبک خدا زندگی کردن  ، باعث سعادت اخروی می شود</a:t>
            </a:r>
            <a:endParaRPr b="0" lang="en-US" sz="5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782960" y="2923920"/>
            <a:ext cx="2665440" cy="12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  <a:cs typeface="A  Mitra_1 (MRT)"/>
              </a:rPr>
              <a:t>آسان شدن امر ازدواج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rebuchet MS"/>
                <a:cs typeface="A  Mitra_1 (MRT)"/>
              </a:rPr>
              <a:t>درمان تنگی نفس</a:t>
            </a:r>
            <a:endParaRPr b="0" lang="en-US" sz="20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250920" y="3068280"/>
            <a:ext cx="3913200" cy="34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c80e0"/>
                </a:solidFill>
                <a:latin typeface="Trebuchet MS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  <a:cs typeface="A  Mitra_1 (MRT)"/>
              </a:rPr>
              <a:t>با یقین مبعوث می شود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  <a:cs typeface="A  Mitra_1 (MRT)"/>
              </a:rPr>
              <a:t>بدون حسابرسی وارد بهشت می شود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  <a:cs typeface="A  Mitra_1 (MRT)"/>
              </a:rPr>
              <a:t>هیچ وقت مورد غذاب خداوند واقع        نمی شود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  <a:cs typeface="A  Mitra_1 (MRT)"/>
              </a:rPr>
              <a:t>بعد از مرگ هفتاد هزارملک با دعا واستغفار اورا همراهی کنند تا در قبر گذاشته شود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2" name="Oval 3"/>
          <p:cNvSpPr/>
          <p:nvPr/>
        </p:nvSpPr>
        <p:spPr>
          <a:xfrm>
            <a:off x="1190520" y="430200"/>
            <a:ext cx="1851120" cy="914400"/>
          </a:xfrm>
          <a:prstGeom prst="ellipse">
            <a:avLst/>
          </a:prstGeom>
          <a:solidFill>
            <a:srgbClr val="f2ac19"/>
          </a:solidFill>
          <a:ln cap="rnd" w="19080">
            <a:solidFill>
              <a:srgbClr val="b27d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فضائل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3" name="Oval 4"/>
          <p:cNvSpPr/>
          <p:nvPr/>
        </p:nvSpPr>
        <p:spPr>
          <a:xfrm>
            <a:off x="5114880" y="477720"/>
            <a:ext cx="2000160" cy="914400"/>
          </a:xfrm>
          <a:prstGeom prst="ellipse">
            <a:avLst/>
          </a:prstGeom>
          <a:solidFill>
            <a:srgbClr val="f2ac19"/>
          </a:solidFill>
          <a:ln cap="rnd" w="19080">
            <a:solidFill>
              <a:srgbClr val="b27d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آثار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4" name="Down Arrow 5"/>
          <p:cNvSpPr/>
          <p:nvPr/>
        </p:nvSpPr>
        <p:spPr>
          <a:xfrm>
            <a:off x="5724360" y="1727280"/>
            <a:ext cx="782640" cy="7189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496cb"/>
          </a:solidFill>
          <a:ln cap="rnd" w="19080">
            <a:solidFill>
              <a:srgbClr val="b36d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5" name="Down Arrow 6"/>
          <p:cNvSpPr/>
          <p:nvPr/>
        </p:nvSpPr>
        <p:spPr>
          <a:xfrm>
            <a:off x="1755720" y="1727280"/>
            <a:ext cx="720720" cy="7189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496cb"/>
          </a:solidFill>
          <a:ln cap="rnd" w="19080">
            <a:solidFill>
              <a:srgbClr val="b36d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5T12:45:31Z</dcterms:created>
  <dc:creator>ZBC</dc:creator>
  <dc:description/>
  <dc:language>en-US</dc:language>
  <cp:lastModifiedBy>jahad-sku</cp:lastModifiedBy>
  <dcterms:modified xsi:type="dcterms:W3CDTF">2016-05-04T07:35:39Z</dcterms:modified>
  <cp:revision>119</cp:revision>
  <dc:subject/>
  <dc:title>آرامش</dc:title>
</cp:coreProperties>
</file>