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9C13-700F-44CD-A6FD-4335F0D00BAF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6E7B-68B2-4DC2-A07C-24083F480FF3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3AF-879C-4FCA-B45A-CA376FFD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2DA-1CDC-4942-9572-E7E926EE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7B7-9373-491C-A9A9-587CA272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704-B830-4830-B128-3558ABFA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3151-ECD7-4F6E-98DC-D1F3F19C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7F13-0DAB-48E7-B86C-3571C5B2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67B0-D1EA-4D2E-B731-72EAACDE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5574-BB95-466D-A832-296668DD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420B-9902-45BC-9DE3-D5B2A298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1A08-2A02-4C58-AB0C-DD505B5D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7ABE-C27B-49AC-971C-A676601B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AED-7637-40A8-850D-AC60216E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7DF3-CB40-4A6A-ABA2-C361398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226F-87D2-411B-B73B-F8C558AC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8881-CC1B-417A-9D73-7D0D171E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5AB2-5477-43C6-89CA-7BF3BE75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537A-A5D7-4870-A306-5BA15054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DDA8-51CA-4573-BE43-C4CAA453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3E6F-CAC9-43CC-8FC9-00683026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45C1-482A-4DFD-9F0C-C1E7055D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3E29-882C-4E96-A2C4-A2B71748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4530-2FB5-4D36-8E89-CE4BDD15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CE0-1090-450D-82E0-E6B4BE52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83C5-8D8D-472D-81F4-CE1BA8B5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1FBB-4750-443C-9689-ECE0A7C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C3ED-E748-42FC-A64A-6195123E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C5379-BCCE-4593-91AF-B617CA26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A406-29FB-464A-A231-4E3C7AE2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D83A-3251-4D6D-9EC8-77446729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3AE6-926C-467B-B3BC-5543AA56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71716-3D7F-4439-AB86-A7DE1E62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2251-CE9E-406D-AA2F-01E04877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4896-1325-48ED-ABFD-D0186E8A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63C-8EE5-48DC-8AB7-2AC513A6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0A28A-CAF2-4B2E-B4FD-1560DA6E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6F2A-2F09-424C-B630-1B40CE52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1FA8C-DD41-467C-8C6B-C1344971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0567-A0AF-471D-A0B9-522E4CE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08AA-8E4F-4656-A3DC-50BE8C01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9596-6D45-4E32-ABD1-846ED274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7258-BBF5-41CD-B94E-E07B3616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DD88E-FBD3-496A-9E09-EFE53290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4264-3E8C-4FB1-9801-801A4BD4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492-B002-475D-94A7-6ECDEFB8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0A8-5A07-4C0A-B077-1A61B6FE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0F7-44DE-4FF9-B57D-DCD3F35D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FE1-F224-4537-99AB-AAA5C1A4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4CE-0F6F-4209-AF5A-AEBE42A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CC26-42F2-43C8-A7DF-CA1E7FA49275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prstGeom prst="pie">
              <a:avLst/>
            </a:pr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65A8-2FDD-4CFF-92A6-6FC85D8A403B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4866-514E-4C0C-8EB2-8BB96841864A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3F2-8769-44EB-8183-0F30EFB629E6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55920" y="1557000"/>
            <a:ext cx="28972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A Thuluth"/>
                <a:cs typeface="A Thuluth"/>
              </a:rPr>
              <a:t>تدبر</a:t>
            </a:r>
            <a:endParaRPr b="0" lang="en-US" sz="9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581360"/>
            <a:ext cx="45705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2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ابوذر کارگر</a:t>
            </a: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19040"/>
            <a:ext cx="532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دبردر قرآن:</a:t>
            </a:r>
            <a:br>
              <a:rPr sz="4000"/>
            </a:br>
            <a:r>
              <a:rPr b="0" lang="fa-IR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م روشمند وهماهنگ ظاهر قرآن کریم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911240"/>
            <a:ext cx="8424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میان سورهای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درون سوره ا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میان موضوع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درون موضوع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276960" y="1995480"/>
            <a:ext cx="914400" cy="3087720"/>
          </a:xfrm>
          <a:prstGeom prst="rect">
            <a:avLst/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تدبر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در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قرآ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Left Arrow 9"/>
          <p:cNvSpPr/>
          <p:nvPr/>
        </p:nvSpPr>
        <p:spPr>
          <a:xfrm>
            <a:off x="5265720" y="2176560"/>
            <a:ext cx="719280" cy="48420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Left Arrow 10"/>
          <p:cNvSpPr/>
          <p:nvPr/>
        </p:nvSpPr>
        <p:spPr>
          <a:xfrm>
            <a:off x="5208480" y="4576680"/>
            <a:ext cx="717480" cy="484200"/>
          </a:xfrm>
          <a:prstGeom prst="leftArrow">
            <a:avLst>
              <a:gd name="adj1" fmla="val 50000"/>
              <a:gd name="adj2" fmla="val 50058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894120" y="1962000"/>
            <a:ext cx="1079640" cy="914400"/>
          </a:xfrm>
          <a:prstGeom prst="rect">
            <a:avLst/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ترتیب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3894120" y="4356000"/>
            <a:ext cx="1079640" cy="914400"/>
          </a:xfrm>
          <a:prstGeom prst="rect">
            <a:avLst/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موضوع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Right Brace 21"/>
          <p:cNvSpPr/>
          <p:nvPr/>
        </p:nvSpPr>
        <p:spPr>
          <a:xfrm>
            <a:off x="3616200" y="191124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ight Brace 22"/>
          <p:cNvSpPr/>
          <p:nvPr/>
        </p:nvSpPr>
        <p:spPr>
          <a:xfrm>
            <a:off x="3633840" y="4361040"/>
            <a:ext cx="146160" cy="915840"/>
          </a:xfrm>
          <a:custGeom>
            <a:avLst/>
            <a:gdLst>
              <a:gd name="textAreaLeft" fmla="*/ 0 w 146160"/>
              <a:gd name="textAreaRight" fmla="*/ 52560 w 146160"/>
              <a:gd name="textAreaTop" fmla="*/ 3600 h 915840"/>
              <a:gd name="textAreaBottom" fmla="*/ 91224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5400" y="21600"/>
                  <a:pt x="0" y="21600"/>
                </a:cubicBezTo>
              </a:path>
            </a:pathLst>
          </a:custGeom>
          <a:noFill/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7840" y="692280"/>
            <a:ext cx="46897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فرق تدبر با تفسیر</a:t>
            </a:r>
            <a:br>
              <a:rPr sz="6000"/>
            </a:br>
            <a:endParaRPr b="0" lang="en-US" sz="6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78920" y="2276280"/>
            <a:ext cx="7201080" cy="2592360"/>
          </a:xfrm>
          <a:prstGeom prst="rect">
            <a:avLst/>
          </a:prstGeom>
          <a:gradFill rotWithShape="0">
            <a:gsLst>
              <a:gs pos="0">
                <a:srgbClr val="56b461"/>
              </a:gs>
              <a:gs pos="100000">
                <a:srgbClr val="3ca14a"/>
              </a:gs>
            </a:gsLst>
            <a:lin ang="5400000"/>
          </a:gradFill>
          <a:ln cap="rnd" w="12600">
            <a:solidFill>
              <a:srgbClr val="42b051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75000"/>
          </a:bodyPr>
          <a:p>
            <a:pPr marL="25704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تدبر استفاده از ظاهر قرآن است</a:t>
            </a:r>
            <a:br>
              <a:rPr sz="4800"/>
            </a:br>
            <a:r>
              <a:rPr b="1" lang="fa-IR" sz="48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تفسیر استفاده از لایه های معرفتی قرآن است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45:31Z</dcterms:created>
  <dc:creator>ZBC</dc:creator>
  <dc:description/>
  <dc:language>en-US</dc:language>
  <cp:lastModifiedBy>jahad-sku</cp:lastModifiedBy>
  <dcterms:modified xsi:type="dcterms:W3CDTF">2016-05-04T07:35:11Z</dcterms:modified>
  <cp:revision>119</cp:revision>
  <dc:subject/>
  <dc:title>آرامش</dc:title>
</cp:coreProperties>
</file>