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3641-0B17-49F1-8771-B13FBEA542D6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3302-FE1C-4DF2-BD16-DD0B01FDE4C7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967-3A94-41F5-A87D-17558286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2E9-859F-4069-98FA-DD3320CB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01B-368A-4812-BBA0-7E887601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7D9-DF5F-465F-B07E-606672C1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37A6-C9E8-4739-ABE7-32E1C2B5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A69F-B207-42C1-A226-D834EF46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E1E7-34F6-4D3D-84F0-57750039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02D3-B864-4547-BCBF-37384E8E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9769-F169-4307-97EC-AEF60D68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3279-D174-42E3-9FEC-DEA58F7A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7F0C-DF67-43C5-A89F-D7071E81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307-5DC0-4333-A272-7B0D43CF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C7CD-4FB2-42D3-8C9F-790438BF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4954-B3CF-402E-8FC7-D405F91C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0500-22DA-40AE-A521-A42AB21D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B3BB-E587-4417-BA99-68EDCB57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CD00-AC45-4AA2-BCF0-73310150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F64D1-0447-4395-8FC4-58A7821F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B6C42-1047-4DD2-B54B-E5C5AF3D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7342E-D55E-45BF-819E-24D20481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A964E-9AAA-4779-8FFF-194BD3FA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47AD6-7C49-4C97-A8CB-089E065C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8BF-31C2-4316-9C2D-5D68EB58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523FB-1F3D-40BD-AA02-EE183EBE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4D84B-AEA8-4663-B737-81F4630C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30CA3-DF38-46DD-89B3-0BFB4A11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FEA3B-C3DA-4BFC-9F15-07B19568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BA97-4BD9-450C-B0B9-247EB79A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471C-6681-417D-81D3-7F9CE2D5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0A4B0-6521-40E8-8001-151672C4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26685-C181-4B59-9987-E237FDFF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14ACA-2B48-411A-87AF-C517A3A8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4B38-5F3D-4121-AC15-BA7A82A9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4B3-4470-4800-8CA7-50FA7FA4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D282-9938-4A68-A806-4BC529AF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BF7A6-94B7-44E6-9359-128AC58B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61A90-08DC-44B7-ADA5-DFC1F02C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4344C-0BC9-4C7D-A3DD-DD646004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AFA06-AFC4-4D5E-9233-2DAE46E1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FB2F8-4352-466A-9606-DEFD173C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22484-5702-45C4-B78A-75CC487E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BDA97-A7FA-41DC-A39A-7EB26087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47D3D-9FD5-412D-B58A-D4ACA64D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266-39C5-4417-883F-294CDE1D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3B4-E147-455A-A745-FD8E873B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50F-B0B9-4EDC-921D-2C79C30C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CA38-9343-43FC-A4A2-266E6652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3D1-63D7-4180-A1DB-68E8B17F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B609-75AA-4FF5-BDA7-0DC6370F027C}" type="slidenum">
              <a:rPr b="0" lang="fa-I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560"/>
              <a:ext cx="1947960" cy="686556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680" y="-7920"/>
              <a:ext cx="1066680" cy="686556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760" y="4893480"/>
              <a:ext cx="109404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00A3-EC60-4978-9A83-CA526E519F6B}" type="slidenum">
              <a:rPr b="0" lang="fa-I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C0E8-6573-435D-AEB3-2124EA406EA2}" type="slidenum">
              <a:rPr b="0" lang="fa-I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B87C-22A5-43FA-B039-528BD9295BE5}" type="slidenum">
              <a:rPr b="0" lang="fa-I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9280" y="1844640"/>
            <a:ext cx="56880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600" spc="-1" strike="noStrike">
                <a:solidFill>
                  <a:srgbClr val="002060"/>
                </a:solidFill>
                <a:latin typeface="A Thuluth"/>
                <a:cs typeface="A Thuluth"/>
              </a:rPr>
              <a:t>سبک زندگی قرآنی</a:t>
            </a:r>
            <a:endParaRPr b="0" lang="en-US" sz="8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19280" y="4581360"/>
            <a:ext cx="45705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 Thuluth"/>
                <a:cs typeface="A  Mitra_1 (MRT)"/>
              </a:rPr>
              <a:t>تدبّر در آیات  سوره مبارکه نور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2500" spc="-1" strike="noStrike">
                <a:solidFill>
                  <a:srgbClr val="000000"/>
                </a:solidFill>
                <a:latin typeface="A Thuluth"/>
                <a:cs typeface="A  Mitra_1 (MRT)"/>
              </a:rPr>
              <a:t>ابوذر کارگر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320" y="-3600"/>
            <a:ext cx="2016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اول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شناخت اجمال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911240"/>
            <a:ext cx="8424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Rounded Rectangle 4"/>
          <p:cNvSpPr/>
          <p:nvPr/>
        </p:nvSpPr>
        <p:spPr>
          <a:xfrm>
            <a:off x="1187280" y="2836800"/>
            <a:ext cx="5400720" cy="2332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7632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مباحث سوره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cs typeface="A  Mitra_1 (MRT)"/>
              </a:rPr>
              <a:t>سفارش به رعایت عفت وپاکدامنی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A  Mitra_1 (MRT)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cs typeface="A  Mitra_1 (MRT)"/>
              </a:rPr>
              <a:t>مجازات زنا کاران وکسانی که به مومنان تهمت می زنند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A  Mitra_1 (MRT)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cs typeface="A  Mitra_1 (MRT)"/>
              </a:rPr>
              <a:t>ماجرای معروف افک                                           حکم حجاب ورعایت پاکدامنی برای جلوگیری از انحرافات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4859280" y="1614600"/>
            <a:ext cx="2413080" cy="914400"/>
          </a:xfrm>
          <a:prstGeom prst="ellipse">
            <a:avLst/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سوره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قرآن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380880" y="1614600"/>
            <a:ext cx="2476800" cy="914400"/>
          </a:xfrm>
          <a:prstGeom prst="ellipse">
            <a:avLst/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نام سوره از آیه 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4859280" y="5492880"/>
            <a:ext cx="2413080" cy="914400"/>
          </a:xfrm>
          <a:prstGeom prst="ellipse">
            <a:avLst/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2000" spc="-1" strike="noStrike">
                <a:solidFill>
                  <a:srgbClr val="404040"/>
                </a:solidFill>
                <a:latin typeface="Tahoma"/>
              </a:rPr>
              <a:t>دارای </a:t>
            </a:r>
            <a:r>
              <a:rPr b="1" lang="en-US" sz="2000" spc="-1" strike="noStrike">
                <a:solidFill>
                  <a:srgbClr val="404040"/>
                </a:solidFill>
                <a:latin typeface="Tahoma"/>
              </a:rPr>
              <a:t>64</a:t>
            </a:r>
            <a:r>
              <a:rPr b="1" lang="fa-IR" sz="2000" spc="-1" strike="noStrike">
                <a:solidFill>
                  <a:srgbClr val="404040"/>
                </a:solidFill>
                <a:latin typeface="Tahoma"/>
              </a:rPr>
              <a:t> آیه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380880" y="5489640"/>
            <a:ext cx="2476800" cy="914400"/>
          </a:xfrm>
          <a:prstGeom prst="ellipse">
            <a:avLst/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ahoma"/>
              </a:rPr>
              <a:t>مدن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4920" y="393480"/>
            <a:ext cx="16556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دوم 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ساختار یاب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98360" y="2131920"/>
            <a:ext cx="83520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Round Single Corner Rectangle 3"/>
          <p:cNvSpPr/>
          <p:nvPr/>
        </p:nvSpPr>
        <p:spPr>
          <a:xfrm>
            <a:off x="658800" y="2079720"/>
            <a:ext cx="6946920" cy="484200"/>
          </a:xfrm>
          <a:prstGeom prst="pi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27</a:t>
            </a:r>
            <a:r>
              <a:rPr b="1" lang="fa-IR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تا</a:t>
            </a:r>
            <a:r>
              <a:rPr b="1" lang="fa-IR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34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Round Single Corner Rectangle 4"/>
          <p:cNvSpPr/>
          <p:nvPr/>
        </p:nvSpPr>
        <p:spPr>
          <a:xfrm>
            <a:off x="6262560" y="3532320"/>
            <a:ext cx="1343160" cy="431640"/>
          </a:xfrm>
          <a:prstGeom prst="pie">
            <a:avLst/>
          </a:prstGeom>
          <a:gradFill rotWithShape="0">
            <a:gsLst>
              <a:gs pos="0">
                <a:srgbClr val="f5cdc3"/>
              </a:gs>
              <a:gs pos="100000">
                <a:srgbClr val="ea815c"/>
              </a:gs>
            </a:gsLst>
            <a:lin ang="5400000"/>
          </a:gradFill>
          <a:ln cap="rnd" w="1260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7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تا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Round Single Corner Rectangle 5"/>
          <p:cNvSpPr/>
          <p:nvPr/>
        </p:nvSpPr>
        <p:spPr>
          <a:xfrm>
            <a:off x="4425840" y="3548160"/>
            <a:ext cx="1344600" cy="431640"/>
          </a:xfrm>
          <a:prstGeom prst="pie">
            <a:avLst/>
          </a:prstGeom>
          <a:gradFill rotWithShape="0">
            <a:gsLst>
              <a:gs pos="0">
                <a:srgbClr val="f5cdc3"/>
              </a:gs>
              <a:gs pos="100000">
                <a:srgbClr val="ea815c"/>
              </a:gs>
            </a:gsLst>
            <a:lin ang="5400000"/>
          </a:gradFill>
          <a:ln cap="rnd" w="1260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fa-IR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و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Round Single Corner Rectangle 6"/>
          <p:cNvSpPr/>
          <p:nvPr/>
        </p:nvSpPr>
        <p:spPr>
          <a:xfrm>
            <a:off x="2579760" y="3529080"/>
            <a:ext cx="1377720" cy="434880"/>
          </a:xfrm>
          <a:prstGeom prst="pie">
            <a:avLst/>
          </a:prstGeom>
          <a:gradFill rotWithShape="0">
            <a:gsLst>
              <a:gs pos="0">
                <a:srgbClr val="f5cdc3"/>
              </a:gs>
              <a:gs pos="100000">
                <a:srgbClr val="ea815c"/>
              </a:gs>
            </a:gsLst>
            <a:lin ang="5400000"/>
          </a:gradFill>
          <a:ln cap="rnd" w="1260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و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3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Down Arrow 7"/>
          <p:cNvSpPr/>
          <p:nvPr/>
        </p:nvSpPr>
        <p:spPr>
          <a:xfrm>
            <a:off x="6777000" y="290844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Down Arrow 8"/>
          <p:cNvSpPr/>
          <p:nvPr/>
        </p:nvSpPr>
        <p:spPr>
          <a:xfrm>
            <a:off x="4962600" y="2908440"/>
            <a:ext cx="485640" cy="330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Down Arrow 9"/>
          <p:cNvSpPr/>
          <p:nvPr/>
        </p:nvSpPr>
        <p:spPr>
          <a:xfrm>
            <a:off x="3052800" y="292752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Rounded Rectangle 10"/>
          <p:cNvSpPr/>
          <p:nvPr/>
        </p:nvSpPr>
        <p:spPr>
          <a:xfrm>
            <a:off x="6262560" y="4802040"/>
            <a:ext cx="1570320" cy="71460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rebuchet MS"/>
              </a:rPr>
              <a:t>احکام ورود به منزل دیگران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Rounded Rectangle 11"/>
          <p:cNvSpPr/>
          <p:nvPr/>
        </p:nvSpPr>
        <p:spPr>
          <a:xfrm>
            <a:off x="4425840" y="4802040"/>
            <a:ext cx="1605240" cy="71460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احکام نگاه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Rounded Rectangle 12"/>
          <p:cNvSpPr/>
          <p:nvPr/>
        </p:nvSpPr>
        <p:spPr>
          <a:xfrm>
            <a:off x="2486160" y="4802040"/>
            <a:ext cx="1577880" cy="71460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مسائل ازدواج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Down Arrow 13"/>
          <p:cNvSpPr/>
          <p:nvPr/>
        </p:nvSpPr>
        <p:spPr>
          <a:xfrm>
            <a:off x="6777000" y="4154400"/>
            <a:ext cx="484200" cy="514440"/>
          </a:xfrm>
          <a:prstGeom prst="downArrow">
            <a:avLst>
              <a:gd name="adj1" fmla="val 50000"/>
              <a:gd name="adj2" fmla="val 50142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Down Arrow 14"/>
          <p:cNvSpPr/>
          <p:nvPr/>
        </p:nvSpPr>
        <p:spPr>
          <a:xfrm>
            <a:off x="4962600" y="4151160"/>
            <a:ext cx="485640" cy="50328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Down Arrow 15"/>
          <p:cNvSpPr/>
          <p:nvPr/>
        </p:nvSpPr>
        <p:spPr>
          <a:xfrm>
            <a:off x="3141720" y="4151160"/>
            <a:ext cx="484200" cy="513000"/>
          </a:xfrm>
          <a:prstGeom prst="downArrow">
            <a:avLst>
              <a:gd name="adj1" fmla="val 50000"/>
              <a:gd name="adj2" fmla="val 5009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Down Arrow 16"/>
          <p:cNvSpPr/>
          <p:nvPr/>
        </p:nvSpPr>
        <p:spPr>
          <a:xfrm>
            <a:off x="1141560" y="2927520"/>
            <a:ext cx="484200" cy="345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Round Single Corner Rectangle 17"/>
          <p:cNvSpPr/>
          <p:nvPr/>
        </p:nvSpPr>
        <p:spPr>
          <a:xfrm>
            <a:off x="695160" y="3559320"/>
            <a:ext cx="1392480" cy="428400"/>
          </a:xfrm>
          <a:prstGeom prst="pie">
            <a:avLst/>
          </a:prstGeom>
          <a:gradFill rotWithShape="0">
            <a:gsLst>
              <a:gs pos="0">
                <a:srgbClr val="f5cdc3"/>
              </a:gs>
              <a:gs pos="100000">
                <a:srgbClr val="ea815c"/>
              </a:gs>
            </a:gsLst>
            <a:lin ang="5400000"/>
          </a:gradFill>
          <a:ln cap="rnd" w="1260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Down Arrow 18"/>
          <p:cNvSpPr/>
          <p:nvPr/>
        </p:nvSpPr>
        <p:spPr>
          <a:xfrm>
            <a:off x="1149480" y="4151160"/>
            <a:ext cx="484200" cy="513000"/>
          </a:xfrm>
          <a:prstGeom prst="downArrow">
            <a:avLst>
              <a:gd name="adj1" fmla="val 50000"/>
              <a:gd name="adj2" fmla="val 5009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Rounded Rectangle 19"/>
          <p:cNvSpPr/>
          <p:nvPr/>
        </p:nvSpPr>
        <p:spPr>
          <a:xfrm>
            <a:off x="539640" y="4802040"/>
            <a:ext cx="1584360" cy="71460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مثال سرگذشت نیاکا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15127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1916280"/>
            <a:ext cx="7923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Flowchart: Punched Tape 6"/>
          <p:cNvSpPr/>
          <p:nvPr/>
        </p:nvSpPr>
        <p:spPr>
          <a:xfrm>
            <a:off x="4427640" y="2133720"/>
            <a:ext cx="3024000" cy="122220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با خبر کردن صاحب خانه وارد منزل دیگران شوی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Flowchart: Punched Tape 7"/>
          <p:cNvSpPr/>
          <p:nvPr/>
        </p:nvSpPr>
        <p:spPr>
          <a:xfrm>
            <a:off x="638280" y="5343480"/>
            <a:ext cx="3024000" cy="125424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در صورت نبود ن صاحب خانه وارد نشوی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Flowchart: Punched Tape 9"/>
          <p:cNvSpPr/>
          <p:nvPr/>
        </p:nvSpPr>
        <p:spPr>
          <a:xfrm>
            <a:off x="2484360" y="3645000"/>
            <a:ext cx="3311640" cy="122400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در صورتی که به شما اجازه ورود ندادند سریع برگردی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5292720" y="353880"/>
            <a:ext cx="163368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اول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0360" y="23400"/>
            <a:ext cx="19447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07640" y="765000"/>
            <a:ext cx="8567640" cy="5276880"/>
          </a:xfrm>
          <a:prstGeom prst="rect">
            <a:avLst/>
          </a:prstGeom>
          <a:ln w="0">
            <a:noFill/>
          </a:ln>
        </p:spPr>
      </p:pic>
      <p:sp>
        <p:nvSpPr>
          <p:cNvPr id="255" name="Flowchart: Punched Tape 3"/>
          <p:cNvSpPr/>
          <p:nvPr/>
        </p:nvSpPr>
        <p:spPr>
          <a:xfrm>
            <a:off x="4859280" y="3483000"/>
            <a:ext cx="3465720" cy="129060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به اجنبی نگاه نکنی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Flowchart: Punched Tape 5"/>
          <p:cNvSpPr/>
          <p:nvPr/>
        </p:nvSpPr>
        <p:spPr>
          <a:xfrm>
            <a:off x="360360" y="3483000"/>
            <a:ext cx="3456000" cy="117648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زینتها ی خود را از نگاه نامحرم بپوشانی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Flowchart: Punched Tape 6"/>
          <p:cNvSpPr/>
          <p:nvPr/>
        </p:nvSpPr>
        <p:spPr>
          <a:xfrm>
            <a:off x="4859280" y="5229360"/>
            <a:ext cx="3465720" cy="128088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خود را ازنگاه حرام بپوشانی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Flowchart: Punched Tape 8"/>
          <p:cNvSpPr/>
          <p:nvPr/>
        </p:nvSpPr>
        <p:spPr>
          <a:xfrm>
            <a:off x="360360" y="5232240"/>
            <a:ext cx="3456000" cy="129096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موقع را رفتن پای بر زمین نکوبی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5106960" y="355680"/>
            <a:ext cx="185112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دو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Down Arrow 11"/>
          <p:cNvSpPr/>
          <p:nvPr/>
        </p:nvSpPr>
        <p:spPr>
          <a:xfrm>
            <a:off x="2556000" y="1952640"/>
            <a:ext cx="3311280" cy="979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دستور می ده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1587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4932360" y="463680"/>
            <a:ext cx="184932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سو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Vertical Scroll 5"/>
          <p:cNvSpPr/>
          <p:nvPr/>
        </p:nvSpPr>
        <p:spPr>
          <a:xfrm>
            <a:off x="5219640" y="1773360"/>
            <a:ext cx="2257560" cy="2663640"/>
          </a:xfrm>
          <a:prstGeom prst="verticalScroll">
            <a:avLst>
              <a:gd name="adj" fmla="val 12500"/>
            </a:avLst>
          </a:prstGeom>
          <a:solidFill>
            <a:srgbClr val="90c226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فراهم کردن شرایط ازدواج افراد مجر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Vertical Scroll 6"/>
          <p:cNvSpPr/>
          <p:nvPr/>
        </p:nvSpPr>
        <p:spPr>
          <a:xfrm>
            <a:off x="2903400" y="2565360"/>
            <a:ext cx="2135160" cy="2664000"/>
          </a:xfrm>
          <a:prstGeom prst="verticalScroll">
            <a:avLst>
              <a:gd name="adj" fmla="val 12500"/>
            </a:avLst>
          </a:prstGeom>
          <a:solidFill>
            <a:srgbClr val="90c226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عفت نگه داشتن کسانی که شرایط ازدواج ندارن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Vertical Scroll 7"/>
          <p:cNvSpPr/>
          <p:nvPr/>
        </p:nvSpPr>
        <p:spPr>
          <a:xfrm>
            <a:off x="609480" y="4068720"/>
            <a:ext cx="2113200" cy="2664000"/>
          </a:xfrm>
          <a:prstGeom prst="verticalScroll">
            <a:avLst>
              <a:gd name="adj" fmla="val 12500"/>
            </a:avLst>
          </a:prstGeom>
          <a:solidFill>
            <a:srgbClr val="90c226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وادار به زنا نکردن افراد با عفت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285480"/>
            <a:ext cx="15112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4"/>
          <p:cNvSpPr/>
          <p:nvPr/>
        </p:nvSpPr>
        <p:spPr>
          <a:xfrm>
            <a:off x="4818240" y="692280"/>
            <a:ext cx="213984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چهارم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Horizontal Scroll 5"/>
          <p:cNvSpPr/>
          <p:nvPr/>
        </p:nvSpPr>
        <p:spPr>
          <a:xfrm>
            <a:off x="826920" y="3284640"/>
            <a:ext cx="5616720" cy="2016000"/>
          </a:xfrm>
          <a:prstGeom prst="horizontalScroll">
            <a:avLst>
              <a:gd name="adj" fmla="val 12500"/>
            </a:avLst>
          </a:prstGeom>
          <a:solidFill>
            <a:srgbClr val="90c226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نزول آیه های روشن با مثال از سرگذشت نیاکان برای عبرت پرهیزکاران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7840" y="692280"/>
            <a:ext cx="468972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جهت هدایتی سیاق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61440" y="2421000"/>
            <a:ext cx="7162920" cy="2520720"/>
          </a:xfrm>
          <a:prstGeom prst="rect">
            <a:avLst/>
          </a:prstGeom>
          <a:gradFill rotWithShape="0">
            <a:gsLst>
              <a:gs pos="0">
                <a:srgbClr val="e6bebd"/>
              </a:gs>
              <a:gs pos="100000">
                <a:srgbClr val="cb635d"/>
              </a:gs>
            </a:gsLst>
            <a:lin ang="5400000"/>
          </a:gradFill>
          <a:ln cap="rnd" w="12600">
            <a:solidFill>
              <a:srgbClr val="c42f1a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_PDMS_Saleem_QuranFont"/>
                <a:cs typeface="_PDMS_Saleem_QuranFont"/>
              </a:rPr>
              <a:t>ازدواج</a:t>
            </a:r>
            <a:r>
              <a:rPr b="1" lang="en-US" sz="5100" spc="-1" strike="noStrike">
                <a:solidFill>
                  <a:srgbClr val="ffffff"/>
                </a:solidFill>
                <a:latin typeface="_PDMS_Saleem_QuranFont"/>
                <a:ea typeface="_PDMS_Saleem_QuranFont"/>
              </a:rPr>
              <a:t> </a:t>
            </a:r>
            <a:endParaRPr b="0" lang="en-US" sz="51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_PDMS_Saleem_QuranFont"/>
                <a:cs typeface="_PDMS_Saleem_QuranFont"/>
              </a:rPr>
              <a:t>بهترین روش برای بیمه شدن از گناه شهوت</a:t>
            </a:r>
            <a:endParaRPr b="0" lang="en-US" sz="5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2:45:31Z</dcterms:created>
  <dc:creator>ZBC</dc:creator>
  <dc:description/>
  <dc:language>en-US</dc:language>
  <cp:lastModifiedBy>jahad-sku</cp:lastModifiedBy>
  <dcterms:modified xsi:type="dcterms:W3CDTF">2016-05-04T07:36:29Z</dcterms:modified>
  <cp:revision>134</cp:revision>
  <dc:subject/>
  <dc:title>آرامش</dc:title>
</cp:coreProperties>
</file>