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B7BE-CE40-4E34-BD48-871FF8F9B71E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9FA3-E1B5-478B-8696-034FC5F7EFB3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854-FEFB-408C-882A-361EFF9E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EA4-CFA4-41BA-AC70-CC330B58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B37-4574-4F89-9D76-7D0FA7A6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FB7-82D6-4525-AAB8-A3D7A449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7722-1CA3-4641-84AF-5FA6F31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CFD1-C831-4074-AB9F-E02A884E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DCB0-4C8B-4D39-9E0B-14067FD5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2C65-C888-4ADF-B16F-E4F78AAE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299-8FC7-475B-BE4D-270EBEB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2C5-4C4C-4E3D-ACC3-2F3B20A3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5400-A173-41EE-8EB8-FAFB5F3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C1A-7BDE-457C-8F9F-6762D65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561-5959-4649-B46D-3C359C6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9097-1DDA-4BB0-86F5-CDCA740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1E37-972C-4D67-8129-CB96FEB3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E541-0FC7-41B5-BD79-17E6A182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AE9D-41AC-4403-A040-2607AE37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B10E-7CB9-43E0-BF06-5E872EF6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FEB2-0DBB-49CD-ADBA-32CD0D0E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5CF6-298A-4AD7-8278-C5C9103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8FAD-E6F4-4BE4-A033-6778BBE0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0522-0223-4A78-84E1-17D4063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CB4-C876-4A5B-83D5-EFB4E08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F9BA-4E48-4D78-B8BC-04A9DC7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A80C-FA97-4B18-8AAD-75397DF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7FF0-3FA5-4026-A21C-75DCD2B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03B6-F58E-46D0-A9C5-C4819108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E6AD-B7A9-4EB5-A915-21DD9E5A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B225-4800-4394-8A46-4CBDB94A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7F44-BAD6-4C8E-8F6D-BDE0BDC0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892E-85A4-4CB0-B109-6ABB5955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C4F7-A55C-4F24-BECF-45CDFF76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379A-182C-4107-A2AF-4C8FD4CB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464-57C4-4399-98BC-5C56CDFE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5146E-EF38-4D04-843E-BCD4D620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F377-A3BF-481C-8B2C-B22D7F2D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9933-3586-4DB1-83E2-552BCA95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8E7E-1577-4BEA-B1B1-306A8EE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528C-218A-4B49-9ED9-56B9F12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6B43-656C-410F-9424-27DBE2C4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3EF4-D630-4889-B4F2-81C2B863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D0B3-5E9D-4EE1-A957-83754196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F28ED-2A80-4787-B80B-7FAB8318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A78-01CF-4A1D-9629-5BC34035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4E8-1841-4C1A-B767-153F2411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48E-0132-470A-B726-9D7067D6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1C8-4D32-4793-9DBD-82109ED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D08-27AE-4B02-8BE2-B0B6A40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B113-5E6D-4216-B5AF-446D47FF55C5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0BD9-3780-47F4-9509-C308026B1ED2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1693-9D9F-4098-B9DA-D008F5C68803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9DA-1BA3-4341-9237-29B939B0864C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9280" y="1844640"/>
            <a:ext cx="568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2060"/>
                </a:solidFill>
                <a:latin typeface="A Thuluth"/>
                <a:cs typeface="A Thuluth"/>
              </a:rPr>
              <a:t>سبک زندگی قرآنی</a:t>
            </a:r>
            <a:endParaRPr b="0" lang="en-US" sz="9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تدبّر در  آیات آخر سوره مبارکه فرقان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91680"/>
            <a:ext cx="2455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اول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شناخت اجمال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ound Diagonal Corner Rectangle 2"/>
          <p:cNvSpPr/>
          <p:nvPr/>
        </p:nvSpPr>
        <p:spPr>
          <a:xfrm>
            <a:off x="6156360" y="793800"/>
            <a:ext cx="2016000" cy="914400"/>
          </a:xfrm>
          <a:prstGeom prst="pie">
            <a:avLst/>
          </a:prstGeom>
          <a:solidFill>
            <a:srgbClr val="f496cb"/>
          </a:solidFill>
          <a:ln cap="rnd" w="2844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س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2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 قرآ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ound Diagonal Corner Rectangle 4"/>
          <p:cNvSpPr/>
          <p:nvPr/>
        </p:nvSpPr>
        <p:spPr>
          <a:xfrm>
            <a:off x="1874880" y="2825640"/>
            <a:ext cx="210024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دارای 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77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 آی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Round Diagonal Corner Rectangle 5"/>
          <p:cNvSpPr/>
          <p:nvPr/>
        </p:nvSpPr>
        <p:spPr>
          <a:xfrm>
            <a:off x="119160" y="3855960"/>
            <a:ext cx="175248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مکّ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ound Diagonal Corner Rectangle 6"/>
          <p:cNvSpPr/>
          <p:nvPr/>
        </p:nvSpPr>
        <p:spPr>
          <a:xfrm>
            <a:off x="3995640" y="1795320"/>
            <a:ext cx="208908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جداکننده بین حق وباطل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ound Diagonal Corner Rectangle 7"/>
          <p:cNvSpPr/>
          <p:nvPr/>
        </p:nvSpPr>
        <p:spPr>
          <a:xfrm>
            <a:off x="2924280" y="4221000"/>
            <a:ext cx="3951360" cy="179568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مباحث سوره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مبداء ومعاد ، نبوت حضرت رسول مبارزه با شرک وبت پرستی  صفات مومنین راستی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3480"/>
            <a:ext cx="1655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دوم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ساختار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8360" y="2131920"/>
            <a:ext cx="8352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Round Single Corner Rectangle 3"/>
          <p:cNvSpPr/>
          <p:nvPr/>
        </p:nvSpPr>
        <p:spPr>
          <a:xfrm>
            <a:off x="658800" y="2079720"/>
            <a:ext cx="6946920" cy="48420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Trebuchet MS"/>
              </a:rPr>
              <a:t>61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تا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Trebuchet MS"/>
              </a:rPr>
              <a:t>77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 Single Corner Rectangle 4"/>
          <p:cNvSpPr/>
          <p:nvPr/>
        </p:nvSpPr>
        <p:spPr>
          <a:xfrm>
            <a:off x="6262560" y="3532320"/>
            <a:ext cx="1511280" cy="43164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1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و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ound Single Corner Rectangle 5"/>
          <p:cNvSpPr/>
          <p:nvPr/>
        </p:nvSpPr>
        <p:spPr>
          <a:xfrm>
            <a:off x="3611520" y="3517920"/>
            <a:ext cx="1346400" cy="43164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3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ound Single Corner Rectangle 6"/>
          <p:cNvSpPr/>
          <p:nvPr/>
        </p:nvSpPr>
        <p:spPr>
          <a:xfrm>
            <a:off x="797040" y="3514680"/>
            <a:ext cx="1377720" cy="43488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Down Arrow 7"/>
          <p:cNvSpPr/>
          <p:nvPr/>
        </p:nvSpPr>
        <p:spPr>
          <a:xfrm>
            <a:off x="6777000" y="29084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Down Arrow 8"/>
          <p:cNvSpPr/>
          <p:nvPr/>
        </p:nvSpPr>
        <p:spPr>
          <a:xfrm>
            <a:off x="4040280" y="2873520"/>
            <a:ext cx="484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1244520" y="291312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ounded Rectangle 10"/>
          <p:cNvSpPr/>
          <p:nvPr/>
        </p:nvSpPr>
        <p:spPr>
          <a:xfrm>
            <a:off x="6013440" y="4802040"/>
            <a:ext cx="227664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حمد وسپاس خدای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خالق آسمان ، ماه وخورشید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منظم کننده شب وروز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ounded Rectangle 11"/>
          <p:cNvSpPr/>
          <p:nvPr/>
        </p:nvSpPr>
        <p:spPr>
          <a:xfrm>
            <a:off x="3147840" y="4802040"/>
            <a:ext cx="226872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بیان صفات عباد الرّحمن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ounded Rectangle 12"/>
          <p:cNvSpPr/>
          <p:nvPr/>
        </p:nvSpPr>
        <p:spPr>
          <a:xfrm>
            <a:off x="423720" y="4802040"/>
            <a:ext cx="212580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عاقبت تکذیب کنندگان آیات ح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Down Arrow 13"/>
          <p:cNvSpPr/>
          <p:nvPr/>
        </p:nvSpPr>
        <p:spPr>
          <a:xfrm>
            <a:off x="6777000" y="4154400"/>
            <a:ext cx="484200" cy="51444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Down Arrow 14"/>
          <p:cNvSpPr/>
          <p:nvPr/>
        </p:nvSpPr>
        <p:spPr>
          <a:xfrm>
            <a:off x="4040280" y="4167360"/>
            <a:ext cx="484200" cy="52200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Down Arrow 15"/>
          <p:cNvSpPr/>
          <p:nvPr/>
        </p:nvSpPr>
        <p:spPr>
          <a:xfrm>
            <a:off x="1244520" y="4167360"/>
            <a:ext cx="484200" cy="51264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1584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4000" y="2205000"/>
            <a:ext cx="720072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0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684360" y="2828880"/>
            <a:ext cx="6400800" cy="3385800"/>
          </a:xfrm>
          <a:prstGeom prst="rect">
            <a:avLst/>
          </a:prstGeom>
          <a:solidFill>
            <a:srgbClr val="f2ac19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بارک</a:t>
            </a: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َ الَّذِي جَعَلَ فِي السَّمَاءِ بُرُوجًا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وَجَعَلَ فِيهَا سِرَاجًا وَقَمَرًا مُنِيرًا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وَهُوَ الَّذِي جَعَلَ اللَّيْلَ وَالنَّهَارَ خِلْفَة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ea typeface="_PDMS_Saleem_QuranFont"/>
              </a:rPr>
              <a:t> لِمَنْ أَرَادَ أَنْ يَذَّكَّرَ أَوْ أَرَادَ شُكُورًا </a:t>
            </a: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٦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643280" y="463680"/>
            <a:ext cx="215280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او</a:t>
            </a: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ّ</a:t>
            </a: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ل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1512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1916280"/>
            <a:ext cx="7923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Flowchart: Punched Tape 6"/>
          <p:cNvSpPr/>
          <p:nvPr/>
        </p:nvSpPr>
        <p:spPr>
          <a:xfrm>
            <a:off x="4788000" y="3413160"/>
            <a:ext cx="255744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تواضع وفروتن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Flowchart: Punched Tape 7"/>
          <p:cNvSpPr/>
          <p:nvPr/>
        </p:nvSpPr>
        <p:spPr>
          <a:xfrm>
            <a:off x="4788000" y="4322880"/>
            <a:ext cx="2579760" cy="100800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برخورد با ملایت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ea typeface="A  Mitra_1 (MRT)"/>
              </a:rPr>
              <a:t> با جاهلا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Flowchart: Punched Tape 8"/>
          <p:cNvSpPr/>
          <p:nvPr/>
        </p:nvSpPr>
        <p:spPr>
          <a:xfrm>
            <a:off x="4788000" y="5435640"/>
            <a:ext cx="258768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سجده ونماز شب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Flowchart: Punched Tape 9"/>
          <p:cNvSpPr/>
          <p:nvPr/>
        </p:nvSpPr>
        <p:spPr>
          <a:xfrm>
            <a:off x="755640" y="341460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عدم شهادت به ناح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Flowchart: Punched Tape 10"/>
          <p:cNvSpPr/>
          <p:nvPr/>
        </p:nvSpPr>
        <p:spPr>
          <a:xfrm>
            <a:off x="755640" y="451332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عدم شرک وقتل وزنا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Flowchart: Punched Tape 11"/>
          <p:cNvSpPr/>
          <p:nvPr/>
        </p:nvSpPr>
        <p:spPr>
          <a:xfrm>
            <a:off x="755640" y="552276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توبه کرد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ounded Rectangle 14"/>
          <p:cNvSpPr/>
          <p:nvPr/>
        </p:nvSpPr>
        <p:spPr>
          <a:xfrm>
            <a:off x="2889360" y="2062080"/>
            <a:ext cx="2266920" cy="91440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Trebuchet MS"/>
              </a:rPr>
              <a:t>صفات عباد الر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ّ</a:t>
            </a:r>
            <a:r>
              <a:rPr b="1" lang="ar-AE" sz="1800" spc="-1" strike="noStrike">
                <a:solidFill>
                  <a:srgbClr val="ffffff"/>
                </a:solidFill>
                <a:latin typeface="Trebuchet MS"/>
              </a:rPr>
              <a:t>حم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788000" y="420840"/>
            <a:ext cx="204156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د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b0f0"/>
              </a:solidFill>
              <a:latin typeface="_PDMS_Saleem_QuranFont"/>
              <a:ea typeface="_PDMS_Saleem_QuranFon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501040" cy="5276880"/>
          </a:xfrm>
          <a:prstGeom prst="rect">
            <a:avLst/>
          </a:prstGeom>
          <a:ln w="0">
            <a:noFill/>
          </a:ln>
        </p:spPr>
      </p:pic>
      <p:sp>
        <p:nvSpPr>
          <p:cNvPr id="259" name="Flowchart: Punched Tape 3"/>
          <p:cNvSpPr/>
          <p:nvPr/>
        </p:nvSpPr>
        <p:spPr>
          <a:xfrm>
            <a:off x="4564080" y="1467000"/>
            <a:ext cx="2663640" cy="80460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توح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Flowchart: Punched Tape 4"/>
          <p:cNvSpPr/>
          <p:nvPr/>
        </p:nvSpPr>
        <p:spPr>
          <a:xfrm>
            <a:off x="662040" y="4376880"/>
            <a:ext cx="2757600" cy="109188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عدم بخل واسراف در انفا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Flowchart: Punched Tape 5"/>
          <p:cNvSpPr/>
          <p:nvPr/>
        </p:nvSpPr>
        <p:spPr>
          <a:xfrm>
            <a:off x="4572000" y="4376880"/>
            <a:ext cx="2664000" cy="94932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عدم قبول کردن کورکورانه حتی حرف ح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Flowchart: Punched Tape 6"/>
          <p:cNvSpPr/>
          <p:nvPr/>
        </p:nvSpPr>
        <p:spPr>
          <a:xfrm>
            <a:off x="4786200" y="2857680"/>
            <a:ext cx="2449800" cy="1083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رخواست روشنی چشم از طریق همسر وفرزندا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Flowchart: Punched Tape 7"/>
          <p:cNvSpPr/>
          <p:nvPr/>
        </p:nvSpPr>
        <p:spPr>
          <a:xfrm>
            <a:off x="571680" y="2590920"/>
            <a:ext cx="2847960" cy="126684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عا برای پرهیزکار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وپیشوای پرهیزکاران شد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Flowchart: Punched Tape 8"/>
          <p:cNvSpPr/>
          <p:nvPr/>
        </p:nvSpPr>
        <p:spPr>
          <a:xfrm>
            <a:off x="785880" y="1571760"/>
            <a:ext cx="2633760" cy="69984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رخواست دوری از جهنم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587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2160720"/>
            <a:ext cx="6913440" cy="3355920"/>
          </a:xfrm>
          <a:prstGeom prst="rect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قُلْ مَا يَعْبَأُ بِكُمْ رَبِّي لَوْلَا دُعَاؤُكُمْ فَقَدْ كَذَّبْتُمْ</a:t>
            </a: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ea typeface="A  Mitra_2 (MRT)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فَسَوْفَ يَكُونُ لِزَامًا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ea typeface="A  Mitra_2 (MRT)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_PDMS_Saleem_QuranFont"/>
                <a:cs typeface="A  Mitra_2 (MRT)"/>
              </a:rPr>
              <a:t>بگو اگر دعا وعبادت شما نباشد پروردگار من اعتنایی به شما ندارد شما که تکذیب کرده اید به زودی نتیجه اش را خواهید دید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32360" y="463680"/>
            <a:ext cx="18493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س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جهت هدایتی سیاق</a:t>
            </a:r>
            <a:endParaRPr b="0" lang="en-US" sz="6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1800" y="2420640"/>
            <a:ext cx="6842160" cy="1989000"/>
          </a:xfrm>
          <a:prstGeom prst="rect">
            <a:avLst/>
          </a:prstGeom>
          <a:gradFill rotWithShape="0">
            <a:gsLst>
              <a:gs pos="0">
                <a:srgbClr val="f3b03f"/>
              </a:gs>
              <a:gs pos="100000">
                <a:srgbClr val="e19e13"/>
              </a:gs>
            </a:gsLst>
            <a:lin ang="5400000"/>
          </a:gradFill>
          <a:ln cap="rnd" w="12600">
            <a:solidFill>
              <a:srgbClr val="f2ac19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40120" indent="-2401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به سبک خدا زندگی کردن  ، باعث سعادت اخروی می شود</a:t>
            </a: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82960" y="2923920"/>
            <a:ext cx="266544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آسان شدن امر ازدواج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درمان تنگی نفس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3068280"/>
            <a:ext cx="391320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c80e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ا یقین مبعوث 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دون حسابرسی وارد بهشت 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هیچ وقت مورد غذاب خداوند واقع        ن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عد از مرگ هفتاد هزارملک با دعا واستغفار اورا همراهی کنند تا در قبر گذاشته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Oval 3"/>
          <p:cNvSpPr/>
          <p:nvPr/>
        </p:nvSpPr>
        <p:spPr>
          <a:xfrm>
            <a:off x="1190520" y="430200"/>
            <a:ext cx="1851120" cy="914400"/>
          </a:xfrm>
          <a:prstGeom prst="ellips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فضائ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5114880" y="477720"/>
            <a:ext cx="2000160" cy="914400"/>
          </a:xfrm>
          <a:prstGeom prst="ellips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آثار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Down Arrow 5"/>
          <p:cNvSpPr/>
          <p:nvPr/>
        </p:nvSpPr>
        <p:spPr>
          <a:xfrm>
            <a:off x="5724360" y="1727280"/>
            <a:ext cx="782640" cy="71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Down Arrow 6"/>
          <p:cNvSpPr/>
          <p:nvPr/>
        </p:nvSpPr>
        <p:spPr>
          <a:xfrm>
            <a:off x="1755720" y="1727280"/>
            <a:ext cx="720720" cy="71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5:39Z</dcterms:modified>
  <cp:revision>119</cp:revision>
  <dc:subject/>
  <dc:title>آرامش</dc:title>
</cp:coreProperties>
</file>