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4C5D-7480-4147-8625-4B7121B042D0}" type="slidenum"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B2C0-3D27-4BA9-9CA5-7C881FF43D4A}" type="slidenum"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9BB9-E065-4485-94D8-EC410E84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FE11-AB74-427F-927B-EE744BE2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4BCB-16ED-48B2-B1AC-5A1A359E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3EEA-B581-41AB-B301-2CE69589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EEE4-2E54-4018-B322-EA2AA5C3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30C0-4ABA-4746-8375-933356EE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B40D-F389-4C9F-ABFB-4C7766E5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14BD-265C-4227-A99A-6DDF1664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E12F-21D8-4262-996E-C7EBAE36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FC58-34DC-4E74-AD16-4100C32A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12AF-7286-4F1C-A1BA-732013F1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0A7A-5F1C-4E2D-B36E-BE2AA73C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FAA9-0F42-4529-A825-10174B2F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956D-CEA0-4D0A-AE6A-09FBFF26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4168-B9C7-4B6B-9FD8-21DAE60A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C8D3-FFB5-46C0-8098-0398E822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7F7F-7610-45C2-8ADE-890C77AE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0E60C-748D-4F8C-8934-03A70B6E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2EF17-0154-4FD0-8202-4E1B41A1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68243-3673-4654-953F-15C298F6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09B03-2D44-4680-A64D-635EE0B2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C25BC-1FE5-446B-ABEC-5CBE1E83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39DB-6627-4A36-BC9A-A2E90702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436F7-D832-4E09-821F-BEB2F8EE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B480D-3AFB-482D-A962-76A165DF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65267-D3C7-4B30-8F14-C5B587A0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3E8F9-074D-4F93-ABFD-3B8CA174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0FFDA-E4FC-4AE8-B88E-C52BC023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AF2EB-4F51-4579-B3D7-FB9916C5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097C5-815C-4905-B269-D8368970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CED9E-D49E-42FA-8E13-0FFA37D8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9D739-0774-47A2-9FDB-F227E4AB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F41CE-434C-40A1-9AA3-695603D3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D7EB-D61C-47DD-B717-E2E1D24F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1E2AA-D42C-4AFF-B977-56EDC45B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C108B-DDD3-45DD-A832-F57BCF73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AD11F-5584-4400-90EB-9919123C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BE7F8-7366-4EB4-A60C-36908F9E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C4EEA-B66B-48B1-BAFF-14DF88AA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606F2-1745-4D7A-9709-95BEC712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A1724-24D8-43F4-874A-BCC55CAC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ED087-A2F6-4939-96BC-72BF601B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B745C-7571-4F5C-A46D-B68AA328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4751-06E0-4CB6-98C7-AC16801F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5FAF-8BB5-4176-8F21-AE585329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BD48-C7D4-4FC0-914F-4C3F8098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438C-21D7-45B2-ADAC-DC736F55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AF77-F9F6-48D8-8AEA-B5F7C625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prstGeom prst="pie">
              <a:avLst/>
            </a:pr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prstGeom prst="pie">
              <a:avLst/>
            </a:pr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prstGeom prst="pie">
              <a:avLst/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4762-E6BE-470F-B54A-6286A71E6002}" type="slidenum">
              <a:rPr b="0" lang="fa-IR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400" y="-7560"/>
              <a:ext cx="1947960" cy="6865560"/>
            </a:xfrm>
            <a:prstGeom prst="pie">
              <a:avLst/>
            </a:pr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94600" y="-7920"/>
              <a:ext cx="1066680" cy="6865560"/>
            </a:xfrm>
            <a:prstGeom prst="pie">
              <a:avLst/>
            </a:pr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9040" y="4893480"/>
              <a:ext cx="1094040" cy="1963800"/>
            </a:xfrm>
            <a:prstGeom prst="pie">
              <a:avLst/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prstGeom prst="pie">
              <a:avLst/>
            </a:pr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3038-B89B-4390-9522-99FC9B844F10}" type="slidenum">
              <a:rPr b="0" lang="fa-IR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400" y="-7560"/>
              <a:ext cx="1947960" cy="6865560"/>
            </a:xfrm>
            <a:prstGeom prst="pie">
              <a:avLst/>
            </a:pr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600" y="-7920"/>
              <a:ext cx="1066680" cy="6865560"/>
            </a:xfrm>
            <a:prstGeom prst="pie">
              <a:avLst/>
            </a:pr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040" y="4893480"/>
              <a:ext cx="1094040" cy="1963800"/>
            </a:xfrm>
            <a:prstGeom prst="pie">
              <a:avLst/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C759-9889-46F2-B0EB-5899EFBDDFC4}" type="slidenum">
              <a:rPr b="0" lang="fa-IR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400" y="-7560"/>
              <a:ext cx="1947960" cy="6865560"/>
            </a:xfrm>
            <a:prstGeom prst="pie">
              <a:avLst/>
            </a:pr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600" y="-7920"/>
              <a:ext cx="1066680" cy="6865560"/>
            </a:xfrm>
            <a:prstGeom prst="pie">
              <a:avLst/>
            </a:pr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040" y="4893480"/>
              <a:ext cx="1094040" cy="1963800"/>
            </a:xfrm>
            <a:prstGeom prst="pie">
              <a:avLst/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88A2-799D-48F4-993C-728E52D61C4F}" type="slidenum">
              <a:rPr b="0" lang="fa-IR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55920" y="1557000"/>
            <a:ext cx="28972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9600" spc="-1" strike="noStrike">
                <a:solidFill>
                  <a:srgbClr val="002060"/>
                </a:solidFill>
                <a:latin typeface="A Thuluth"/>
                <a:cs typeface="A Thuluth"/>
              </a:rPr>
              <a:t>تدبر</a:t>
            </a:r>
            <a:endParaRPr b="0" lang="en-US" sz="9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619280" y="4581360"/>
            <a:ext cx="45705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4200" spc="-1" strike="noStrike">
                <a:solidFill>
                  <a:srgbClr val="000000"/>
                </a:solidFill>
                <a:latin typeface="A Thuluth"/>
                <a:cs typeface="A  Mitra_1 (MRT)"/>
              </a:rPr>
              <a:t>ابوذر کارگر</a:t>
            </a:r>
            <a:endParaRPr b="0" lang="en-US" sz="4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8560" y="419040"/>
            <a:ext cx="5329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دبردر قرآن:</a:t>
            </a:r>
            <a:br>
              <a:rPr sz="4000"/>
            </a:br>
            <a:r>
              <a:rPr b="0" lang="fa-IR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م روشمند وهماهنگ ظاهر قرآن کریم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1911240"/>
            <a:ext cx="842472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404040"/>
                </a:solidFill>
                <a:latin typeface="Trebuchet MS"/>
              </a:rPr>
              <a:t>                                            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</a:rPr>
              <a:t>میان سورهای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404040"/>
                </a:solidFill>
                <a:latin typeface="Trebuchet MS"/>
              </a:rPr>
              <a:t>                                            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</a:rPr>
              <a:t>درون سوره ا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404040"/>
                </a:solidFill>
                <a:latin typeface="Trebuchet MS"/>
              </a:rPr>
              <a:t>                                            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</a:rPr>
              <a:t>میان موضوع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404040"/>
                </a:solidFill>
                <a:latin typeface="Trebuchet MS"/>
              </a:rPr>
              <a:t>                                            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</a:rPr>
              <a:t>درون موضوع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6276960" y="1995480"/>
            <a:ext cx="914400" cy="3087720"/>
          </a:xfrm>
          <a:prstGeom prst="rect">
            <a:avLst/>
          </a:prstGeom>
          <a:solidFill>
            <a:srgbClr val="5fcbef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تدبر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در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قرآن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Left Arrow 9"/>
          <p:cNvSpPr/>
          <p:nvPr/>
        </p:nvSpPr>
        <p:spPr>
          <a:xfrm>
            <a:off x="5265720" y="2176560"/>
            <a:ext cx="719280" cy="48420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5fcbef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Left Arrow 10"/>
          <p:cNvSpPr/>
          <p:nvPr/>
        </p:nvSpPr>
        <p:spPr>
          <a:xfrm>
            <a:off x="5208480" y="4576680"/>
            <a:ext cx="717480" cy="484200"/>
          </a:xfrm>
          <a:prstGeom prst="leftArrow">
            <a:avLst>
              <a:gd name="adj1" fmla="val 50000"/>
              <a:gd name="adj2" fmla="val 50058"/>
            </a:avLst>
          </a:prstGeom>
          <a:solidFill>
            <a:srgbClr val="5fcbef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3894120" y="1962000"/>
            <a:ext cx="1079640" cy="914400"/>
          </a:xfrm>
          <a:prstGeom prst="rect">
            <a:avLst/>
          </a:prstGeom>
          <a:solidFill>
            <a:srgbClr val="5fcbef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ترتیب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3894120" y="4356000"/>
            <a:ext cx="1079640" cy="914400"/>
          </a:xfrm>
          <a:prstGeom prst="rect">
            <a:avLst/>
          </a:prstGeom>
          <a:solidFill>
            <a:srgbClr val="5fcbef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موضوع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Right Brace 21"/>
          <p:cNvSpPr/>
          <p:nvPr/>
        </p:nvSpPr>
        <p:spPr>
          <a:xfrm>
            <a:off x="3616200" y="1911240"/>
            <a:ext cx="155880" cy="914400"/>
          </a:xfrm>
          <a:custGeom>
            <a:avLst/>
            <a:gdLst>
              <a:gd name="textAreaLeft" fmla="*/ 0 w 155880"/>
              <a:gd name="textAreaRight" fmla="*/ 56160 w 15588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cap="rnd" w="12600">
            <a:solidFill>
              <a:srgbClr val="5fcb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Right Brace 22"/>
          <p:cNvSpPr/>
          <p:nvPr/>
        </p:nvSpPr>
        <p:spPr>
          <a:xfrm>
            <a:off x="3633840" y="4361040"/>
            <a:ext cx="146160" cy="915840"/>
          </a:xfrm>
          <a:custGeom>
            <a:avLst/>
            <a:gdLst>
              <a:gd name="textAreaLeft" fmla="*/ 0 w 146160"/>
              <a:gd name="textAreaRight" fmla="*/ 52560 w 146160"/>
              <a:gd name="textAreaTop" fmla="*/ 3600 h 915840"/>
              <a:gd name="textAreaBottom" fmla="*/ 912240 h 91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4"/>
                  <a:pt x="10800" y="288"/>
                </a:cubicBezTo>
                <a:lnTo>
                  <a:pt x="10800" y="10512"/>
                </a:lnTo>
                <a:cubicBezTo>
                  <a:pt x="10800" y="10656"/>
                  <a:pt x="16200" y="10800"/>
                  <a:pt x="21600" y="10800"/>
                </a:cubicBezTo>
                <a:cubicBezTo>
                  <a:pt x="16200" y="10800"/>
                  <a:pt x="10800" y="10944"/>
                  <a:pt x="10800" y="11088"/>
                </a:cubicBezTo>
                <a:lnTo>
                  <a:pt x="10800" y="21312"/>
                </a:lnTo>
                <a:cubicBezTo>
                  <a:pt x="10800" y="21456"/>
                  <a:pt x="5400" y="21600"/>
                  <a:pt x="0" y="21600"/>
                </a:cubicBezTo>
              </a:path>
            </a:pathLst>
          </a:custGeom>
          <a:noFill/>
          <a:ln cap="rnd" w="12600">
            <a:solidFill>
              <a:srgbClr val="5fcb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7840" y="692280"/>
            <a:ext cx="4689720" cy="94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6000" spc="-1" strike="noStrike">
                <a:solidFill>
                  <a:srgbClr val="000000"/>
                </a:solidFill>
                <a:latin typeface="_PDMS_Saleem_QuranFont"/>
                <a:cs typeface="_PDMS_Saleem_QuranFont"/>
              </a:rPr>
              <a:t>فرق تدبر با تفسیر</a:t>
            </a:r>
            <a:br>
              <a:rPr sz="6000"/>
            </a:br>
            <a:endParaRPr b="0" lang="en-US" sz="6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78920" y="2276280"/>
            <a:ext cx="7201080" cy="2592360"/>
          </a:xfrm>
          <a:prstGeom prst="rect">
            <a:avLst/>
          </a:prstGeom>
          <a:gradFill rotWithShape="0">
            <a:gsLst>
              <a:gs pos="0">
                <a:srgbClr val="56b461"/>
              </a:gs>
              <a:gs pos="100000">
                <a:srgbClr val="3ca14a"/>
              </a:gs>
            </a:gsLst>
            <a:lin ang="5400000"/>
          </a:gradFill>
          <a:ln cap="rnd" w="12600">
            <a:solidFill>
              <a:srgbClr val="42b051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 fontScale="75000"/>
          </a:bodyPr>
          <a:p>
            <a:pPr marL="257040" indent="-257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_PDMS_Saleem_QuranFont"/>
                <a:cs typeface="_PDMS_Saleem_QuranFont"/>
              </a:rPr>
              <a:t>تدبر استفاده از ظاهر قرآن است</a:t>
            </a:r>
            <a:br>
              <a:rPr sz="4800"/>
            </a:br>
            <a:r>
              <a:rPr b="1" lang="fa-IR" sz="4800" spc="-1" strike="noStrike">
                <a:solidFill>
                  <a:srgbClr val="000000"/>
                </a:solidFill>
                <a:latin typeface="_PDMS_Saleem_QuranFont"/>
                <a:cs typeface="_PDMS_Saleem_QuranFont"/>
              </a:rPr>
              <a:t>تفسیر استفاده از لایه های معرفتی قرآن است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2:45:31Z</dcterms:created>
  <dc:creator>ZBC</dc:creator>
  <dc:description/>
  <dc:language>en-US</dc:language>
  <cp:lastModifiedBy>jahad-sku</cp:lastModifiedBy>
  <dcterms:modified xsi:type="dcterms:W3CDTF">2016-05-04T07:35:11Z</dcterms:modified>
  <cp:revision>119</cp:revision>
  <dc:subject/>
  <dc:title>آرامش</dc:title>
</cp:coreProperties>
</file>