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8D02-0F46-43B9-B408-96DA9C6AA1AC}" type="slidenum"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0352-CBC7-44D4-A0A4-CD5FDE35092E}" type="slidenum"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3E20-3F2D-4427-8F82-A12B4401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5AEF-AE58-46E6-B6BF-CE17EE7B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B723-96A3-40B7-9172-4C120E393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0E08-B7AE-41CA-971C-CBE203352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168B-817D-492E-B0BB-E5B12E17B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4D6D-76E1-4AE8-AB75-213DC48B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5AA5-F591-4477-B083-016AA06D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84C8-659B-461D-AD10-77170406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6CE5-4FA4-4605-8EEF-8427F19A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2E0A-89F8-40D1-8FA8-CA0A0EB9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DD0B-C550-48B8-95D9-0609EC91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AFE3-E4F9-4C55-AE88-C2F58260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4DDC-356C-46AC-A5E3-6AC38725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15D4-7A9D-40D8-8AB0-F98831D0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14F7-7952-4478-ABD6-871FE116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2258-F0E4-48E4-BFB3-77541ED1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0288-28A5-4382-B4FF-BFDF7308A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8E62C-7F15-4C5E-9408-31E5B5BC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A2C9A-6C4A-4AF1-9AEC-CA4EDB93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DD4F7-8A62-4EDC-AD83-E08845E6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15462-21D5-46E5-869F-604D8793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2AF3F-A98C-4E60-881C-673E9B80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EB53-AF4B-403E-880D-F6833A1D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06966-89EB-4647-AF4F-48B84AE8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5B14C-3E43-4D83-958E-C33A4855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84E52-ABEE-4A91-9375-A27AD5AD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727A3-98DC-47F1-988F-F0824A90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501B0-9B6D-4A28-B3BC-BFA6642A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C3859-2434-4BAE-9549-B4C92B99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263D4-44EA-4495-BF6B-E6074C745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BC81B-4CB7-4B64-BA92-505FF4D7F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7C1BD-55F7-4B1B-92B8-9C77833B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ED47A-F1BF-4681-984C-8DE6E5E4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89AB-E1CB-4C45-AD08-A6B31EF4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7FD7C-98CF-45D6-A9DE-D082AABB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BC9F5-5293-46BC-9181-392F78C7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19BA2-D308-408F-A46C-3695D2D4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99ED4-AA58-4529-8599-E0C1B7C4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6AA32-94D8-4D7D-85D4-4A01A34A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9EF61-4129-4E7F-ADF8-20F7473E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6B783-0A90-4DB4-93A0-7B66B706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F223C-085D-43B9-B184-A04B290C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06836-3EC1-4CCD-827A-6B013D1D3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2BF1-BFA3-4223-933E-B2957702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89B4-9F30-431C-A587-9B939F4E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3A23-580D-44FC-BF9F-821F7163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2FCC-6646-48C1-82AD-773BDAEF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6120-24E0-4044-8A0C-6296E8A1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DE2A-2B5E-4D97-9605-3B281A3F02EA}" type="slidenum">
              <a:rPr b="0" lang="fa-IR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2200" y="360"/>
              <a:ext cx="2269440" cy="686556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560"/>
              <a:ext cx="1947960" cy="686556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8400" y="3920040"/>
              <a:ext cx="2513520" cy="293760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1000" y="-7560"/>
              <a:ext cx="2142720" cy="686556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200" y="-7560"/>
              <a:ext cx="857520" cy="686556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680" y="-7920"/>
              <a:ext cx="1066680" cy="686556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760" y="4893480"/>
              <a:ext cx="109404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1E38-0AE2-4A09-84C5-D1071B869821}" type="slidenum">
              <a:rPr b="0" lang="fa-IR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87F6-B2D3-434E-954B-1D25FF18F3FC}" type="slidenum">
              <a:rPr b="0" lang="fa-IR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8B06-B6A3-4B14-B25F-2BBC1EF4DED5}" type="slidenum">
              <a:rPr b="0" lang="fa-IR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49280" y="1844640"/>
            <a:ext cx="56880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600" spc="-1" strike="noStrike">
                <a:solidFill>
                  <a:srgbClr val="002060"/>
                </a:solidFill>
                <a:latin typeface="A Thuluth"/>
                <a:cs typeface="A Thuluth"/>
              </a:rPr>
              <a:t>سبک زندگی قرآنی</a:t>
            </a:r>
            <a:endParaRPr b="0" lang="en-US" sz="8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619280" y="4581360"/>
            <a:ext cx="457056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 Thuluth"/>
                <a:cs typeface="A  Mitra_1 (MRT)"/>
              </a:rPr>
              <a:t>تدبّر در آیات  سوره مبارکه نور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2500" spc="-1" strike="noStrike">
                <a:solidFill>
                  <a:srgbClr val="000000"/>
                </a:solidFill>
                <a:latin typeface="A Thuluth"/>
                <a:cs typeface="A  Mitra_1 (MRT)"/>
              </a:rPr>
              <a:t>ابوذر کارگر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320" y="-3600"/>
            <a:ext cx="20160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تفهّم اول</a:t>
            </a:r>
            <a:br>
              <a:rPr sz="4000"/>
            </a:b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شناخت اجمالی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50920" y="1911240"/>
            <a:ext cx="842472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Rounded Rectangle 4"/>
          <p:cNvSpPr/>
          <p:nvPr/>
        </p:nvSpPr>
        <p:spPr>
          <a:xfrm>
            <a:off x="1187280" y="2836800"/>
            <a:ext cx="5400720" cy="2332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76320">
            <a:solidFill>
              <a:srgbClr val="54a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1" lang="en-US" sz="1800" spc="-1" strike="noStrike">
                <a:solidFill>
                  <a:srgbClr val="404040"/>
                </a:solidFill>
                <a:latin typeface="Tahoma"/>
              </a:rPr>
              <a:t>مباحث سوره</a:t>
            </a:r>
            <a:r>
              <a:rPr b="1" lang="en-US" sz="1800" spc="-1" strike="noStrike">
                <a:solidFill>
                  <a:srgbClr val="404040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cs typeface="A  Mitra_1 (MRT)"/>
              </a:rPr>
              <a:t>سفارش به رعایت عفت وپاکدامنی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A  Mitra_1 (MRT)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cs typeface="A  Mitra_1 (MRT)"/>
              </a:rPr>
              <a:t>مجازات زنا کاران وکسانی که به مومنان تهمت می زنند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A  Mitra_1 (MRT)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cs typeface="A  Mitra_1 (MRT)"/>
              </a:rPr>
              <a:t>ماجرای معروف افک                                           حکم حجاب ورعایت پاکدامنی برای جلوگیری از انحرافات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Oval 5"/>
          <p:cNvSpPr/>
          <p:nvPr/>
        </p:nvSpPr>
        <p:spPr>
          <a:xfrm>
            <a:off x="4859280" y="1614600"/>
            <a:ext cx="2413080" cy="914400"/>
          </a:xfrm>
          <a:prstGeom prst="ellipse">
            <a:avLst/>
          </a:prstGeom>
          <a:solidFill>
            <a:srgbClr val="e6b91e"/>
          </a:solidFill>
          <a:ln cap="rnd" w="19080">
            <a:solidFill>
              <a:srgbClr val="a987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سوره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24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قرآن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380880" y="1614600"/>
            <a:ext cx="2476800" cy="914400"/>
          </a:xfrm>
          <a:prstGeom prst="ellipse">
            <a:avLst/>
          </a:prstGeom>
          <a:solidFill>
            <a:srgbClr val="e6b91e"/>
          </a:solidFill>
          <a:ln cap="rnd" w="19080">
            <a:solidFill>
              <a:srgbClr val="a987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ahoma"/>
              </a:rPr>
              <a:t>نام سوره از آیه </a:t>
            </a:r>
            <a:r>
              <a:rPr b="1" lang="en-US" sz="1800" spc="-1" strike="noStrike">
                <a:solidFill>
                  <a:srgbClr val="404040"/>
                </a:solidFill>
                <a:latin typeface="Tahoma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4859280" y="5492880"/>
            <a:ext cx="2413080" cy="914400"/>
          </a:xfrm>
          <a:prstGeom prst="ellipse">
            <a:avLst/>
          </a:prstGeom>
          <a:solidFill>
            <a:srgbClr val="e6b91e"/>
          </a:solidFill>
          <a:ln cap="rnd" w="19080">
            <a:solidFill>
              <a:srgbClr val="a987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2000" spc="-1" strike="noStrike">
                <a:solidFill>
                  <a:srgbClr val="404040"/>
                </a:solidFill>
                <a:latin typeface="Tahoma"/>
              </a:rPr>
              <a:t>دارای </a:t>
            </a:r>
            <a:r>
              <a:rPr b="1" lang="en-US" sz="2000" spc="-1" strike="noStrike">
                <a:solidFill>
                  <a:srgbClr val="404040"/>
                </a:solidFill>
                <a:latin typeface="Tahoma"/>
              </a:rPr>
              <a:t>64</a:t>
            </a:r>
            <a:r>
              <a:rPr b="1" lang="fa-IR" sz="2000" spc="-1" strike="noStrike">
                <a:solidFill>
                  <a:srgbClr val="404040"/>
                </a:solidFill>
                <a:latin typeface="Tahoma"/>
              </a:rPr>
              <a:t> آیه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Oval 8"/>
          <p:cNvSpPr/>
          <p:nvPr/>
        </p:nvSpPr>
        <p:spPr>
          <a:xfrm>
            <a:off x="380880" y="5489640"/>
            <a:ext cx="2476800" cy="914400"/>
          </a:xfrm>
          <a:prstGeom prst="ellipse">
            <a:avLst/>
          </a:prstGeom>
          <a:solidFill>
            <a:srgbClr val="e6b91e"/>
          </a:solidFill>
          <a:ln cap="rnd" w="19080">
            <a:solidFill>
              <a:srgbClr val="a987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ahoma"/>
              </a:rPr>
              <a:t>مدنی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split dir="out" orient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4920" y="393480"/>
            <a:ext cx="16556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تفهّم دوم </a:t>
            </a:r>
            <a:br>
              <a:rPr sz="4000"/>
            </a:b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ساختار یابی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98360" y="2131920"/>
            <a:ext cx="83520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Round Single Corner Rectangle 3"/>
          <p:cNvSpPr/>
          <p:nvPr/>
        </p:nvSpPr>
        <p:spPr>
          <a:xfrm>
            <a:off x="658800" y="2079720"/>
            <a:ext cx="6946920" cy="484200"/>
          </a:xfrm>
          <a:prstGeom prst="pie">
            <a:avLst/>
          </a:prstGeom>
          <a:solidFill>
            <a:srgbClr val="e76618"/>
          </a:solidFill>
          <a:ln cap="rnd" w="19080">
            <a:solidFill>
              <a:srgbClr val="aa49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27</a:t>
            </a:r>
            <a:r>
              <a:rPr b="1" lang="fa-IR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تا</a:t>
            </a:r>
            <a:r>
              <a:rPr b="1" lang="fa-IR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34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Round Single Corner Rectangle 4"/>
          <p:cNvSpPr/>
          <p:nvPr/>
        </p:nvSpPr>
        <p:spPr>
          <a:xfrm>
            <a:off x="6262560" y="3532320"/>
            <a:ext cx="1343160" cy="431640"/>
          </a:xfrm>
          <a:prstGeom prst="pie">
            <a:avLst/>
          </a:prstGeom>
          <a:gradFill rotWithShape="0">
            <a:gsLst>
              <a:gs pos="0">
                <a:srgbClr val="f5cdc3"/>
              </a:gs>
              <a:gs pos="100000">
                <a:srgbClr val="ea815c"/>
              </a:gs>
            </a:gsLst>
            <a:lin ang="5400000"/>
          </a:gradFill>
          <a:ln cap="rnd" w="12600">
            <a:solidFill>
              <a:srgbClr val="e766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27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تا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Round Single Corner Rectangle 5"/>
          <p:cNvSpPr/>
          <p:nvPr/>
        </p:nvSpPr>
        <p:spPr>
          <a:xfrm>
            <a:off x="4425840" y="3548160"/>
            <a:ext cx="1344600" cy="431640"/>
          </a:xfrm>
          <a:prstGeom prst="pie">
            <a:avLst/>
          </a:prstGeom>
          <a:gradFill rotWithShape="0">
            <a:gsLst>
              <a:gs pos="0">
                <a:srgbClr val="f5cdc3"/>
              </a:gs>
              <a:gs pos="100000">
                <a:srgbClr val="ea815c"/>
              </a:gs>
            </a:gsLst>
            <a:lin ang="5400000"/>
          </a:gradFill>
          <a:ln cap="rnd" w="12600">
            <a:solidFill>
              <a:srgbClr val="e766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30</a:t>
            </a:r>
            <a:r>
              <a:rPr b="0" lang="fa-IR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و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Round Single Corner Rectangle 6"/>
          <p:cNvSpPr/>
          <p:nvPr/>
        </p:nvSpPr>
        <p:spPr>
          <a:xfrm>
            <a:off x="2579760" y="3529080"/>
            <a:ext cx="1377720" cy="434880"/>
          </a:xfrm>
          <a:prstGeom prst="pie">
            <a:avLst/>
          </a:prstGeom>
          <a:gradFill rotWithShape="0">
            <a:gsLst>
              <a:gs pos="0">
                <a:srgbClr val="f5cdc3"/>
              </a:gs>
              <a:gs pos="100000">
                <a:srgbClr val="ea815c"/>
              </a:gs>
            </a:gsLst>
            <a:lin ang="5400000"/>
          </a:gradFill>
          <a:ln cap="rnd" w="12600">
            <a:solidFill>
              <a:srgbClr val="e766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32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و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33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Down Arrow 7"/>
          <p:cNvSpPr/>
          <p:nvPr/>
        </p:nvSpPr>
        <p:spPr>
          <a:xfrm>
            <a:off x="6777000" y="2908440"/>
            <a:ext cx="48420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Down Arrow 8"/>
          <p:cNvSpPr/>
          <p:nvPr/>
        </p:nvSpPr>
        <p:spPr>
          <a:xfrm>
            <a:off x="4962600" y="2908440"/>
            <a:ext cx="485640" cy="330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Down Arrow 9"/>
          <p:cNvSpPr/>
          <p:nvPr/>
        </p:nvSpPr>
        <p:spPr>
          <a:xfrm>
            <a:off x="3052800" y="2927520"/>
            <a:ext cx="48420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Rounded Rectangle 10"/>
          <p:cNvSpPr/>
          <p:nvPr/>
        </p:nvSpPr>
        <p:spPr>
          <a:xfrm>
            <a:off x="6262560" y="4802040"/>
            <a:ext cx="1570320" cy="714600"/>
          </a:xfrm>
          <a:prstGeom prst="roundRect">
            <a:avLst>
              <a:gd name="adj" fmla="val 16667"/>
            </a:avLst>
          </a:prstGeom>
          <a:solidFill>
            <a:srgbClr val="e6b91e"/>
          </a:solidFill>
          <a:ln cap="rnd" w="19080">
            <a:solidFill>
              <a:srgbClr val="a987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rebuchet MS"/>
              </a:rPr>
              <a:t>احکام ورود به منزل دیگران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Rounded Rectangle 11"/>
          <p:cNvSpPr/>
          <p:nvPr/>
        </p:nvSpPr>
        <p:spPr>
          <a:xfrm>
            <a:off x="4425840" y="4802040"/>
            <a:ext cx="1605240" cy="714600"/>
          </a:xfrm>
          <a:prstGeom prst="roundRect">
            <a:avLst>
              <a:gd name="adj" fmla="val 16667"/>
            </a:avLst>
          </a:prstGeom>
          <a:solidFill>
            <a:srgbClr val="e6b91e"/>
          </a:solidFill>
          <a:ln cap="rnd" w="19080">
            <a:solidFill>
              <a:srgbClr val="a987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احکام نگاه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Rounded Rectangle 12"/>
          <p:cNvSpPr/>
          <p:nvPr/>
        </p:nvSpPr>
        <p:spPr>
          <a:xfrm>
            <a:off x="2486160" y="4802040"/>
            <a:ext cx="1577880" cy="714600"/>
          </a:xfrm>
          <a:prstGeom prst="roundRect">
            <a:avLst>
              <a:gd name="adj" fmla="val 16667"/>
            </a:avLst>
          </a:prstGeom>
          <a:solidFill>
            <a:srgbClr val="e6b91e"/>
          </a:solidFill>
          <a:ln cap="rnd" w="19080">
            <a:solidFill>
              <a:srgbClr val="a987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مسائل ازدواج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Down Arrow 13"/>
          <p:cNvSpPr/>
          <p:nvPr/>
        </p:nvSpPr>
        <p:spPr>
          <a:xfrm>
            <a:off x="6777000" y="4154400"/>
            <a:ext cx="484200" cy="514440"/>
          </a:xfrm>
          <a:prstGeom prst="downArrow">
            <a:avLst>
              <a:gd name="adj1" fmla="val 50000"/>
              <a:gd name="adj2" fmla="val 50142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Down Arrow 14"/>
          <p:cNvSpPr/>
          <p:nvPr/>
        </p:nvSpPr>
        <p:spPr>
          <a:xfrm>
            <a:off x="4962600" y="4151160"/>
            <a:ext cx="485640" cy="503280"/>
          </a:xfrm>
          <a:prstGeom prst="downArrow">
            <a:avLst>
              <a:gd name="adj1" fmla="val 50000"/>
              <a:gd name="adj2" fmla="val 49882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Down Arrow 15"/>
          <p:cNvSpPr/>
          <p:nvPr/>
        </p:nvSpPr>
        <p:spPr>
          <a:xfrm>
            <a:off x="3141720" y="4151160"/>
            <a:ext cx="484200" cy="513000"/>
          </a:xfrm>
          <a:prstGeom prst="downArrow">
            <a:avLst>
              <a:gd name="adj1" fmla="val 50000"/>
              <a:gd name="adj2" fmla="val 50099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Down Arrow 16"/>
          <p:cNvSpPr/>
          <p:nvPr/>
        </p:nvSpPr>
        <p:spPr>
          <a:xfrm>
            <a:off x="1141560" y="2927520"/>
            <a:ext cx="484200" cy="345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Round Single Corner Rectangle 17"/>
          <p:cNvSpPr/>
          <p:nvPr/>
        </p:nvSpPr>
        <p:spPr>
          <a:xfrm>
            <a:off x="695160" y="3559320"/>
            <a:ext cx="1392480" cy="428400"/>
          </a:xfrm>
          <a:prstGeom prst="pie">
            <a:avLst/>
          </a:prstGeom>
          <a:gradFill rotWithShape="0">
            <a:gsLst>
              <a:gs pos="0">
                <a:srgbClr val="f5cdc3"/>
              </a:gs>
              <a:gs pos="100000">
                <a:srgbClr val="ea815c"/>
              </a:gs>
            </a:gsLst>
            <a:lin ang="5400000"/>
          </a:gradFill>
          <a:ln cap="rnd" w="12600">
            <a:solidFill>
              <a:srgbClr val="e766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Down Arrow 18"/>
          <p:cNvSpPr/>
          <p:nvPr/>
        </p:nvSpPr>
        <p:spPr>
          <a:xfrm>
            <a:off x="1149480" y="4151160"/>
            <a:ext cx="484200" cy="513000"/>
          </a:xfrm>
          <a:prstGeom prst="downArrow">
            <a:avLst>
              <a:gd name="adj1" fmla="val 50000"/>
              <a:gd name="adj2" fmla="val 50099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Rounded Rectangle 19"/>
          <p:cNvSpPr/>
          <p:nvPr/>
        </p:nvSpPr>
        <p:spPr>
          <a:xfrm>
            <a:off x="539640" y="4802040"/>
            <a:ext cx="1584360" cy="714600"/>
          </a:xfrm>
          <a:prstGeom prst="roundRect">
            <a:avLst>
              <a:gd name="adj" fmla="val 16667"/>
            </a:avLst>
          </a:prstGeom>
          <a:solidFill>
            <a:srgbClr val="e6b91e"/>
          </a:solidFill>
          <a:ln cap="rnd" w="19080">
            <a:solidFill>
              <a:srgbClr val="a987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مثال سرگذشت نیاکان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15127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تفهّم سوم</a:t>
            </a:r>
            <a:br>
              <a:rPr sz="4000"/>
            </a:b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جهت یابی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1916280"/>
            <a:ext cx="79232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Flowchart: Punched Tape 6"/>
          <p:cNvSpPr/>
          <p:nvPr/>
        </p:nvSpPr>
        <p:spPr>
          <a:xfrm>
            <a:off x="4427640" y="2133720"/>
            <a:ext cx="3024000" cy="1222200"/>
          </a:xfrm>
          <a:prstGeom prst="flowChartPunchedTape">
            <a:avLst/>
          </a:prstGeom>
          <a:solidFill>
            <a:srgbClr val="e76618"/>
          </a:solidFill>
          <a:ln cap="rnd" w="19080">
            <a:solidFill>
              <a:srgbClr val="aa49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_PDMS_Saleem_QuranFont"/>
                <a:cs typeface="A  Mitra_1 (MRT)"/>
              </a:rPr>
              <a:t>با خبر کردن صاحب خانه وارد منزل دیگران شوید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Flowchart: Punched Tape 7"/>
          <p:cNvSpPr/>
          <p:nvPr/>
        </p:nvSpPr>
        <p:spPr>
          <a:xfrm>
            <a:off x="638280" y="5343480"/>
            <a:ext cx="3024000" cy="1254240"/>
          </a:xfrm>
          <a:prstGeom prst="flowChartPunchedTape">
            <a:avLst/>
          </a:prstGeom>
          <a:solidFill>
            <a:srgbClr val="e76618"/>
          </a:solidFill>
          <a:ln cap="rnd" w="19080">
            <a:solidFill>
              <a:srgbClr val="aa49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_PDMS_Saleem_QuranFont"/>
                <a:cs typeface="A  Mitra_1 (MRT)"/>
              </a:rPr>
              <a:t>در صورت نبود ن صاحب خانه وارد نشوید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Flowchart: Punched Tape 9"/>
          <p:cNvSpPr/>
          <p:nvPr/>
        </p:nvSpPr>
        <p:spPr>
          <a:xfrm>
            <a:off x="2484360" y="3645000"/>
            <a:ext cx="3311640" cy="1224000"/>
          </a:xfrm>
          <a:prstGeom prst="flowChartPunchedTape">
            <a:avLst/>
          </a:prstGeom>
          <a:solidFill>
            <a:srgbClr val="e76618"/>
          </a:solidFill>
          <a:ln cap="rnd" w="19080">
            <a:solidFill>
              <a:srgbClr val="aa49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_PDMS_Saleem_QuranFont"/>
                <a:cs typeface="A  Mitra_1 (MRT)"/>
              </a:rPr>
              <a:t>در صورتی که به شما اجازه ورود ندادند سریع برگردید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5292720" y="353880"/>
            <a:ext cx="1633680" cy="91440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Trebuchet MS"/>
                <a:cs typeface="A  Mitra_5 (MRT)"/>
              </a:rPr>
              <a:t>دسته اول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60360" y="23400"/>
            <a:ext cx="19447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تفهّم سوم</a:t>
            </a:r>
            <a:br>
              <a:rPr sz="4000"/>
            </a:b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جهت یابی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07640" y="765000"/>
            <a:ext cx="8567640" cy="5276880"/>
          </a:xfrm>
          <a:prstGeom prst="rect">
            <a:avLst/>
          </a:prstGeom>
          <a:ln w="0">
            <a:noFill/>
          </a:ln>
        </p:spPr>
      </p:pic>
      <p:sp>
        <p:nvSpPr>
          <p:cNvPr id="255" name="Flowchart: Punched Tape 3"/>
          <p:cNvSpPr/>
          <p:nvPr/>
        </p:nvSpPr>
        <p:spPr>
          <a:xfrm>
            <a:off x="4859280" y="3483000"/>
            <a:ext cx="3465720" cy="1290600"/>
          </a:xfrm>
          <a:prstGeom prst="flowChartPunchedTape">
            <a:avLst/>
          </a:prstGeom>
          <a:solidFill>
            <a:srgbClr val="e76618"/>
          </a:solidFill>
          <a:ln cap="rnd" w="19080">
            <a:solidFill>
              <a:srgbClr val="aa49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_PDMS_Saleem_QuranFont"/>
                <a:cs typeface="A  Mitra_2 (MRT)"/>
              </a:rPr>
              <a:t>به اجنبی نگاه نکنید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Flowchart: Punched Tape 5"/>
          <p:cNvSpPr/>
          <p:nvPr/>
        </p:nvSpPr>
        <p:spPr>
          <a:xfrm>
            <a:off x="360360" y="3483000"/>
            <a:ext cx="3456000" cy="1176480"/>
          </a:xfrm>
          <a:prstGeom prst="flowChartPunchedTape">
            <a:avLst/>
          </a:prstGeom>
          <a:solidFill>
            <a:srgbClr val="e76618"/>
          </a:solidFill>
          <a:ln cap="rnd" w="19080">
            <a:solidFill>
              <a:srgbClr val="aa49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_PDMS_Saleem_QuranFont"/>
                <a:cs typeface="A  Mitra_2 (MRT)"/>
              </a:rPr>
              <a:t>زینتها ی خود را از نگاه نامحرم بپوشانید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Flowchart: Punched Tape 6"/>
          <p:cNvSpPr/>
          <p:nvPr/>
        </p:nvSpPr>
        <p:spPr>
          <a:xfrm>
            <a:off x="4859280" y="5229360"/>
            <a:ext cx="3465720" cy="1280880"/>
          </a:xfrm>
          <a:prstGeom prst="flowChartPunchedTape">
            <a:avLst/>
          </a:prstGeom>
          <a:solidFill>
            <a:srgbClr val="e76618"/>
          </a:solidFill>
          <a:ln cap="rnd" w="19080">
            <a:solidFill>
              <a:srgbClr val="aa49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_PDMS_Saleem_QuranFont"/>
                <a:cs typeface="A  Mitra_2 (MRT)"/>
              </a:rPr>
              <a:t>خود را ازنگاه حرام بپوشانید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Flowchart: Punched Tape 8"/>
          <p:cNvSpPr/>
          <p:nvPr/>
        </p:nvSpPr>
        <p:spPr>
          <a:xfrm>
            <a:off x="360360" y="5232240"/>
            <a:ext cx="3456000" cy="1290960"/>
          </a:xfrm>
          <a:prstGeom prst="flowChartPunchedTape">
            <a:avLst/>
          </a:prstGeom>
          <a:solidFill>
            <a:srgbClr val="e76618"/>
          </a:solidFill>
          <a:ln cap="rnd" w="19080">
            <a:solidFill>
              <a:srgbClr val="aa49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_PDMS_Saleem_QuranFont"/>
                <a:cs typeface="A  Mitra_2 (MRT)"/>
              </a:rPr>
              <a:t>موقع را رفتن پای بر زمین نکوبید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5106960" y="355680"/>
            <a:ext cx="1851120" cy="91440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Trebuchet MS"/>
                <a:cs typeface="A  Mitra_5 (MRT)"/>
              </a:rPr>
              <a:t>دسته دوم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Down Arrow 11"/>
          <p:cNvSpPr/>
          <p:nvPr/>
        </p:nvSpPr>
        <p:spPr>
          <a:xfrm>
            <a:off x="2556000" y="1952640"/>
            <a:ext cx="3311280" cy="979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6b91e"/>
          </a:solidFill>
          <a:ln cap="rnd" w="19080">
            <a:solidFill>
              <a:srgbClr val="a987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دستور می دهد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1587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تفهّم سوم</a:t>
            </a:r>
            <a:br>
              <a:rPr sz="4000"/>
            </a:br>
            <a:r>
              <a:rPr b="1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جهت یابی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4932360" y="463680"/>
            <a:ext cx="1849320" cy="91440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b0f0"/>
                </a:solidFill>
                <a:latin typeface="Trebuchet MS"/>
                <a:cs typeface="A  Mitra_5 (MRT)"/>
              </a:rPr>
              <a:t>دسته سوم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Vertical Scroll 5"/>
          <p:cNvSpPr/>
          <p:nvPr/>
        </p:nvSpPr>
        <p:spPr>
          <a:xfrm>
            <a:off x="5219640" y="1773360"/>
            <a:ext cx="2257560" cy="2663640"/>
          </a:xfrm>
          <a:prstGeom prst="verticalScroll">
            <a:avLst>
              <a:gd name="adj" fmla="val 12500"/>
            </a:avLst>
          </a:prstGeom>
          <a:solidFill>
            <a:srgbClr val="90c226"/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فراهم کردن شرایط ازدواج افراد مجرد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Vertical Scroll 6"/>
          <p:cNvSpPr/>
          <p:nvPr/>
        </p:nvSpPr>
        <p:spPr>
          <a:xfrm>
            <a:off x="2903400" y="2565360"/>
            <a:ext cx="2135160" cy="2664000"/>
          </a:xfrm>
          <a:prstGeom prst="verticalScroll">
            <a:avLst>
              <a:gd name="adj" fmla="val 12500"/>
            </a:avLst>
          </a:prstGeom>
          <a:solidFill>
            <a:srgbClr val="90c226"/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عفت نگه داشتن کسانی که شرایط ازدواج ندارند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Vertical Scroll 7"/>
          <p:cNvSpPr/>
          <p:nvPr/>
        </p:nvSpPr>
        <p:spPr>
          <a:xfrm>
            <a:off x="609480" y="4068720"/>
            <a:ext cx="2113200" cy="2664000"/>
          </a:xfrm>
          <a:prstGeom prst="verticalScroll">
            <a:avLst>
              <a:gd name="adj" fmla="val 12500"/>
            </a:avLst>
          </a:prstGeom>
          <a:solidFill>
            <a:srgbClr val="90c226"/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وادار به زنا نکردن افراد با عفت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285480"/>
            <a:ext cx="15112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تفهّم سوم</a:t>
            </a:r>
            <a:br>
              <a:rPr sz="4000"/>
            </a:br>
            <a:r>
              <a:rPr b="1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جهت یابی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4"/>
          <p:cNvSpPr/>
          <p:nvPr/>
        </p:nvSpPr>
        <p:spPr>
          <a:xfrm>
            <a:off x="4818240" y="692280"/>
            <a:ext cx="2139840" cy="91440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Trebuchet MS"/>
                <a:cs typeface="A  Mitra_5 (MRT)"/>
              </a:rPr>
              <a:t>دسته چهارم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Horizontal Scroll 5"/>
          <p:cNvSpPr/>
          <p:nvPr/>
        </p:nvSpPr>
        <p:spPr>
          <a:xfrm>
            <a:off x="826920" y="3284640"/>
            <a:ext cx="5616720" cy="2016000"/>
          </a:xfrm>
          <a:prstGeom prst="horizontalScroll">
            <a:avLst>
              <a:gd name="adj" fmla="val 12500"/>
            </a:avLst>
          </a:prstGeom>
          <a:solidFill>
            <a:srgbClr val="90c226"/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نزول آیه های روشن با مثال از سرگذشت نیاکان برای عبرت پرهیزکاران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7840" y="692280"/>
            <a:ext cx="4689720" cy="94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_PDMS_Saleem_QuranFont"/>
                <a:cs typeface="_PDMS_Saleem_QuranFont"/>
              </a:rPr>
              <a:t>جهت هدایتی سیاق</a:t>
            </a:r>
            <a:endParaRPr b="0" lang="en-US" sz="6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61440" y="2421000"/>
            <a:ext cx="7162920" cy="2520720"/>
          </a:xfrm>
          <a:prstGeom prst="rect">
            <a:avLst/>
          </a:prstGeom>
          <a:gradFill rotWithShape="0">
            <a:gsLst>
              <a:gs pos="0">
                <a:srgbClr val="e6bebd"/>
              </a:gs>
              <a:gs pos="100000">
                <a:srgbClr val="cb635d"/>
              </a:gs>
            </a:gsLst>
            <a:lin ang="5400000"/>
          </a:gradFill>
          <a:ln cap="rnd" w="12600">
            <a:solidFill>
              <a:srgbClr val="c42f1a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100" spc="-1" strike="noStrike">
                <a:solidFill>
                  <a:srgbClr val="ffffff"/>
                </a:solidFill>
                <a:latin typeface="_PDMS_Saleem_QuranFont"/>
                <a:cs typeface="_PDMS_Saleem_QuranFont"/>
              </a:rPr>
              <a:t>ازدواج</a:t>
            </a:r>
            <a:r>
              <a:rPr b="1" lang="en-US" sz="5100" spc="-1" strike="noStrike">
                <a:solidFill>
                  <a:srgbClr val="ffffff"/>
                </a:solidFill>
                <a:latin typeface="_PDMS_Saleem_QuranFont"/>
                <a:ea typeface="_PDMS_Saleem_QuranFont"/>
              </a:rPr>
              <a:t> </a:t>
            </a:r>
            <a:endParaRPr b="0" lang="en-US" sz="51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100" spc="-1" strike="noStrike">
                <a:solidFill>
                  <a:srgbClr val="ffffff"/>
                </a:solidFill>
                <a:latin typeface="_PDMS_Saleem_QuranFont"/>
                <a:cs typeface="_PDMS_Saleem_QuranFont"/>
              </a:rPr>
              <a:t>بهترین روش برای بیمه شدن از گناه شهوت</a:t>
            </a:r>
            <a:endParaRPr b="0" lang="en-US" sz="51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2:45:31Z</dcterms:created>
  <dc:creator>ZBC</dc:creator>
  <dc:description/>
  <dc:language>en-US</dc:language>
  <cp:lastModifiedBy>jahad-sku</cp:lastModifiedBy>
  <dcterms:modified xsi:type="dcterms:W3CDTF">2016-05-04T07:36:29Z</dcterms:modified>
  <cp:revision>134</cp:revision>
  <dc:subject/>
  <dc:title>آرامش</dc:title>
</cp:coreProperties>
</file>